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D91-CBDD-436B-8093-36123A881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920" y="3765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C3CA-11C3-4479-B570-E53155E7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2920" y="3765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0520" y="3765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EC98-5E5C-4806-B7F8-723840FE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69400" y="1476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1476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2920" y="3765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69400" y="3765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3765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8E26-9ABD-4A53-B10F-98785FCB1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19A2-B911-47B6-833B-2A1E0E9F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476000"/>
            <a:ext cx="9069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0087-8D8D-499C-A39F-F71EA95A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69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4707-1CF3-41F1-811D-BB92F3E1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6B5A-6F89-4F92-8EA7-8FE73E119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1A1B-ED1A-425F-ACB0-2C56CFE7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252360"/>
            <a:ext cx="100789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EFD2-BCE4-4FA2-BAA3-935095BED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2920" y="3765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EB0D-865B-4408-AC6F-46E8D902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2920" y="1476000"/>
            <a:ext cx="9069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AE28-4484-4FE6-9837-94A800C0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0520" y="3765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8E3-4481-491D-92A3-606ED959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2920" y="3765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3508-E89C-4D30-8234-987516F4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2920" y="3765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E16D-8C82-455D-A3CE-8B6CA38E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2920" y="3765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0520" y="3765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A10F-0142-4255-8A34-4F023E60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69400" y="1476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5520" y="1476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2920" y="3765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69400" y="3765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5520" y="3765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F69D-D17D-40D9-9BF2-0F3B67BB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69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7A9C-B797-4C5A-B282-FCB7F701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FE2B-5DD9-46C0-B0DF-A86280CA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B6D5-49B0-48A9-A421-F41F1489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252360"/>
            <a:ext cx="10078920" cy="33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351-B0B1-4A39-8DBC-71A5506A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2920" y="3765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26EF-0F9E-44D6-89F4-C5E58F21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0520" y="3765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8280-D726-4ECA-B4E7-AD9A1F23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0520" y="1476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2920" y="3765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75A-2C58-4248-BEAD-7610CEA2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0360" y="1260360"/>
            <a:ext cx="9360000" cy="5940720"/>
          </a:xfrm>
          <a:prstGeom prst="roundRect">
            <a:avLst>
              <a:gd name="adj" fmla="val 1806"/>
            </a:avLst>
          </a:prstGeom>
          <a:solidFill>
            <a:srgbClr val="a2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60360" y="179280"/>
            <a:ext cx="9360000" cy="900360"/>
          </a:xfrm>
          <a:prstGeom prst="roundRect">
            <a:avLst>
              <a:gd name="adj" fmla="val 16667"/>
            </a:avLst>
          </a:prstGeom>
          <a:solidFill>
            <a:srgbClr val="a2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2920" y="1476000"/>
            <a:ext cx="9069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BBCB8-5584-4D35-A4DA-36E2ED1D42F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60360" y="1260360"/>
            <a:ext cx="9360000" cy="5940720"/>
          </a:xfrm>
          <a:prstGeom prst="roundRect">
            <a:avLst>
              <a:gd name="adj" fmla="val 1806"/>
            </a:avLst>
          </a:prstGeom>
          <a:solidFill>
            <a:srgbClr val="a2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0360" y="179280"/>
            <a:ext cx="9360000" cy="900360"/>
          </a:xfrm>
          <a:prstGeom prst="roundRect">
            <a:avLst>
              <a:gd name="adj" fmla="val 16667"/>
            </a:avLst>
          </a:prstGeom>
          <a:solidFill>
            <a:srgbClr val="a2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252360"/>
            <a:ext cx="1007892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2920" y="1476000"/>
            <a:ext cx="906948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801EB-9616-4505-84F9-040B15C85004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 et labyrin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927080" y="1440000"/>
            <a:ext cx="6166080" cy="4117680"/>
            <a:chOff x="1927080" y="1440000"/>
            <a:chExt cx="6166080" cy="411768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927080" y="1838160"/>
              <a:ext cx="6166080" cy="37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4205160" y="1440000"/>
              <a:ext cx="153828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40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</a:tabLst>
              </a:pPr>
              <a:r>
                <a:rPr b="0" lang="zxx" sz="1600" spc="-1" strike="noStrike">
                  <a:solidFill>
                    <a:srgbClr val="000000"/>
                  </a:solidFill>
                  <a:latin typeface="Arial"/>
                </a:rPr>
                <a:t>(Starcraft 2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0" y="5940360"/>
            <a:ext cx="10078920" cy="1081080"/>
            <a:chOff x="0" y="5940360"/>
            <a:chExt cx="10078920" cy="1081080"/>
          </a:xfrm>
        </p:grpSpPr>
        <p:sp>
          <p:nvSpPr>
            <p:cNvPr id="91" name=""/>
            <p:cNvSpPr/>
            <p:nvPr/>
          </p:nvSpPr>
          <p:spPr>
            <a:xfrm>
              <a:off x="0" y="5940360"/>
              <a:ext cx="10078920" cy="4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9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vincent.thomas@loria.fr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535800"/>
              <a:ext cx="10078920" cy="48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9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Atelier ISN 2019 – 7 Mars 201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476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543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610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676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744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811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7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878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945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1012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1079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23ff23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7092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Structure de labyrin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Recherche de che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lgorithme de Lee / la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utres problè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1146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1213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1280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4" name=""/>
          <p:cNvSpPr/>
          <p:nvPr/>
        </p:nvSpPr>
        <p:spPr>
          <a:xfrm flipH="1">
            <a:off x="4317480" y="5578560"/>
            <a:ext cx="1011240" cy="1440"/>
          </a:xfrm>
          <a:prstGeom prst="line">
            <a:avLst/>
          </a:prstGeom>
          <a:ln w="72000">
            <a:solidFill>
              <a:srgbClr val="b800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4140360" y="4533480"/>
            <a:ext cx="1440" cy="939960"/>
          </a:xfrm>
          <a:prstGeom prst="line">
            <a:avLst/>
          </a:prstGeom>
          <a:ln w="72000">
            <a:solidFill>
              <a:srgbClr val="b800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3600360" y="4427640"/>
            <a:ext cx="503280" cy="1440"/>
          </a:xfrm>
          <a:prstGeom prst="line">
            <a:avLst/>
          </a:prstGeom>
          <a:ln w="72000">
            <a:solidFill>
              <a:srgbClr val="b80047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3564000" y="2734920"/>
            <a:ext cx="1440" cy="1514520"/>
          </a:xfrm>
          <a:prstGeom prst="line">
            <a:avLst/>
          </a:prstGeom>
          <a:ln w="72000">
            <a:solidFill>
              <a:srgbClr val="b80047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H="1">
            <a:off x="3525480" y="2664000"/>
            <a:ext cx="687240" cy="1440"/>
          </a:xfrm>
          <a:prstGeom prst="line">
            <a:avLst/>
          </a:prstGeom>
          <a:ln w="72000">
            <a:solidFill>
              <a:srgbClr val="b80047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1352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8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grpSp>
          <p:nvGrpSpPr>
            <p:cNvPr id="1419" name=""/>
            <p:cNvGrpSpPr/>
            <p:nvPr/>
          </p:nvGrpSpPr>
          <p:grpSpPr>
            <a:xfrm>
              <a:off x="2664000" y="1800360"/>
              <a:ext cx="4677840" cy="4678200"/>
              <a:chOff x="2664000" y="1800360"/>
              <a:chExt cx="4677840" cy="4678200"/>
            </a:xfrm>
          </p:grpSpPr>
          <p:sp>
            <p:nvSpPr>
              <p:cNvPr id="1420" name=""/>
              <p:cNvSpPr/>
              <p:nvPr/>
            </p:nvSpPr>
            <p:spPr>
              <a:xfrm>
                <a:off x="3833280" y="180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441900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66400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24936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172560" y="180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75828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002920" y="180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8864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3833280" y="238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3366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41900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66400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24936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172560" y="238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75828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002920" y="238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8864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833280" y="297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41900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66400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24936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e6ff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172560" y="297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675828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002920" y="297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58864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833280" y="355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441900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266400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24936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172560" y="355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75828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002920" y="355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58864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833280" y="414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441900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66400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24936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6172560" y="414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75828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002920" y="414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58864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833280" y="472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441900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66400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4936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172560" y="472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675828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002920" y="472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58864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833280" y="531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41900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66400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24936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6172560" y="531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75828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002920" y="531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99cc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58864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e6ff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833280" y="589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41900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266400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4936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172560" y="589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75828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002920" y="589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58864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4" name=""/>
            <p:cNvSpPr/>
            <p:nvPr/>
          </p:nvSpPr>
          <p:spPr>
            <a:xfrm flipV="1">
              <a:off x="5904000" y="5073480"/>
              <a:ext cx="0" cy="47016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400720" y="4427640"/>
              <a:ext cx="50148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3672000" y="2664000"/>
              <a:ext cx="396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5904000" y="450036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824360" y="442764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211640" y="4427640"/>
              <a:ext cx="50148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V="1">
              <a:off x="3635280" y="4422600"/>
              <a:ext cx="498600" cy="50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975280" y="442764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975280" y="558000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4714920" y="5578560"/>
              <a:ext cx="504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H="1">
              <a:off x="4175280" y="5578560"/>
              <a:ext cx="504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527280" y="557856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327640" y="269892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904000" y="2698920"/>
              <a:ext cx="50148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V="1">
              <a:off x="3527280" y="3922560"/>
              <a:ext cx="0" cy="54000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V="1">
              <a:off x="3527280" y="3311640"/>
              <a:ext cx="0" cy="50472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V="1">
              <a:off x="3527280" y="2769840"/>
              <a:ext cx="0" cy="46980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4140360" y="276984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 flipV="1">
              <a:off x="5292720" y="276984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6480000" y="262692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V="1">
              <a:off x="6480000" y="320328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V="1">
              <a:off x="6480000" y="377784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V="1">
              <a:off x="4103640" y="5073480"/>
              <a:ext cx="0" cy="47016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4103640" y="450036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5254560" y="5578560"/>
              <a:ext cx="504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>
              <a:off x="3672000" y="3276720"/>
              <a:ext cx="396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Coder en 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5608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Dém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Courier New"/>
              </a:rPr>
              <a:t>[X]</a:t>
            </a: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 Savoir résoudre à la 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Courier New"/>
              </a:rPr>
              <a:t>[ ]</a:t>
            </a: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 Comprendre la stratégie mise en oeuv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Courier New"/>
              </a:rPr>
              <a:t>[ ]</a:t>
            </a: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 Ecrire algorithme de haut nivea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Courier New"/>
              </a:rPr>
              <a:t>[ ]</a:t>
            </a: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 Traduire en comment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4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Courier New"/>
              </a:rPr>
              <a:t>[ ]</a:t>
            </a: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 Ajouter le code entre les comm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Intérê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Séparer code de l'algo et réduir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voir code correctement comme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1515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1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grpSp>
          <p:nvGrpSpPr>
            <p:cNvPr id="1582" name=""/>
            <p:cNvGrpSpPr/>
            <p:nvPr/>
          </p:nvGrpSpPr>
          <p:grpSpPr>
            <a:xfrm>
              <a:off x="2664000" y="1800360"/>
              <a:ext cx="4677840" cy="4678200"/>
              <a:chOff x="2664000" y="1800360"/>
              <a:chExt cx="4677840" cy="4678200"/>
            </a:xfrm>
          </p:grpSpPr>
          <p:sp>
            <p:nvSpPr>
              <p:cNvPr id="1583" name=""/>
              <p:cNvSpPr/>
              <p:nvPr/>
            </p:nvSpPr>
            <p:spPr>
              <a:xfrm>
                <a:off x="3833280" y="180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41900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266400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324936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172560" y="180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75828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002920" y="180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588640" y="180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3833280" y="238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3366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441900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66400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24936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172560" y="238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75828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002920" y="238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588640" y="238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833280" y="297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441900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266400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324936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e6ff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6172560" y="297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675828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002920" y="297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588640" y="297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833280" y="355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441900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266400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24936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6172560" y="355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675828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002920" y="355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588640" y="355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833280" y="414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441900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266400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24936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6172560" y="414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75828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002920" y="414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588640" y="414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833280" y="472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441900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66400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324936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6172560" y="472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675828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002920" y="472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588640" y="472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33280" y="531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41900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266400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24936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6172560" y="531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ffff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108000" tIns="63000" bIns="63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fr-FR" sz="2400" spc="-1" strike="noStrike">
                    <a:solidFill>
                      <a:srgbClr val="ffffff"/>
                    </a:solidFill>
                    <a:latin typeface="Arial"/>
                    <a:ea typeface="Microsoft YaHei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75828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002920" y="5310360"/>
                <a:ext cx="583920" cy="583920"/>
              </a:xfrm>
              <a:prstGeom prst="roundRect">
                <a:avLst>
                  <a:gd name="adj" fmla="val 269"/>
                </a:avLst>
              </a:prstGeom>
              <a:solidFill>
                <a:srgbClr val="99ccff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588640" y="5310360"/>
                <a:ext cx="583560" cy="58392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3920"/>
                  <a:gd name="textAreaBottom" fmla="*/ 583560 h 58392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e6ff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3833280" y="589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441900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266400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324936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6172560" y="589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675828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002920" y="5894280"/>
                <a:ext cx="583920" cy="584280"/>
              </a:xfrm>
              <a:custGeom>
                <a:avLst/>
                <a:gdLst>
                  <a:gd name="textAreaLeft" fmla="*/ 360 w 583920"/>
                  <a:gd name="textAreaRight" fmla="*/ 583560 w 58392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13">
                    <a:moveTo>
                      <a:pt x="58" y="0"/>
                    </a:moveTo>
                    <a:arcTo wR="58" hR="58" stAng="16200000" swAng="-5400000"/>
                    <a:lnTo>
                      <a:pt x="0" y="21555"/>
                    </a:lnTo>
                    <a:arcTo wR="58" hR="58" stAng="10800000" swAng="-5400000"/>
                    <a:lnTo>
                      <a:pt x="21542" y="21613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588640" y="5894280"/>
                <a:ext cx="583560" cy="584280"/>
              </a:xfrm>
              <a:custGeom>
                <a:avLst/>
                <a:gdLst>
                  <a:gd name="textAreaLeft" fmla="*/ 360 w 583560"/>
                  <a:gd name="textAreaRight" fmla="*/ 583200 w 583560"/>
                  <a:gd name="textAreaTop" fmla="*/ 360 h 584280"/>
                  <a:gd name="textAreaBottom" fmla="*/ 583920 h 584280"/>
                </a:gdLst>
                <a:ahLst/>
                <a:rect l="textAreaLeft" t="textAreaTop" r="textAreaRight" b="textAreaBottom"/>
                <a:pathLst>
                  <a:path w="21600" h="21627">
                    <a:moveTo>
                      <a:pt x="58" y="0"/>
                    </a:moveTo>
                    <a:arcTo wR="58" hR="58" stAng="16200000" swAng="-5400000"/>
                    <a:lnTo>
                      <a:pt x="0" y="21569"/>
                    </a:lnTo>
                    <a:arcTo wR="58" hR="58" stAng="10800000" swAng="-5400000"/>
                    <a:lnTo>
                      <a:pt x="21542" y="21627"/>
                    </a:lnTo>
                    <a:arcTo wR="58" hR="58" stAng="5400000" swAng="-5400000"/>
                    <a:lnTo>
                      <a:pt x="21600" y="58"/>
                    </a:lnTo>
                    <a:arcTo wR="58" hR="58" stAng="0" swAng="-5400000"/>
                    <a:close/>
                  </a:path>
                </a:pathLst>
              </a:custGeom>
              <a:solidFill>
                <a:srgbClr val="000000"/>
              </a:solidFill>
              <a:ln w="360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7" name=""/>
            <p:cNvSpPr/>
            <p:nvPr/>
          </p:nvSpPr>
          <p:spPr>
            <a:xfrm flipV="1">
              <a:off x="5904000" y="5073480"/>
              <a:ext cx="0" cy="47016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00720" y="4427640"/>
              <a:ext cx="50148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>
              <a:off x="3672000" y="2664000"/>
              <a:ext cx="396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V="1">
              <a:off x="5904000" y="450036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824360" y="442764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211640" y="4427640"/>
              <a:ext cx="50148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3635280" y="4422600"/>
              <a:ext cx="498600" cy="50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975280" y="442764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975280" y="558000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4714920" y="5578560"/>
              <a:ext cx="504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>
              <a:off x="4175280" y="5578560"/>
              <a:ext cx="504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3527280" y="557856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327640" y="2698920"/>
              <a:ext cx="50184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904000" y="2698920"/>
              <a:ext cx="50148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V="1">
              <a:off x="3527280" y="3922560"/>
              <a:ext cx="0" cy="54000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V="1">
              <a:off x="3527280" y="3311640"/>
              <a:ext cx="0" cy="50472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V="1">
              <a:off x="3527280" y="2769840"/>
              <a:ext cx="0" cy="46980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V="1">
              <a:off x="4140360" y="276984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V="1">
              <a:off x="5292720" y="276984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V="1">
              <a:off x="6480000" y="262692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V="1">
              <a:off x="6480000" y="320328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6480000" y="377784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V="1">
              <a:off x="4103640" y="5073480"/>
              <a:ext cx="0" cy="47016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V="1">
              <a:off x="4103640" y="4500360"/>
              <a:ext cx="0" cy="53964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>
              <a:off x="5254560" y="5578560"/>
              <a:ext cx="504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>
              <a:off x="3672000" y="3276720"/>
              <a:ext cx="396720" cy="0"/>
            </a:xfrm>
            <a:prstGeom prst="line">
              <a:avLst/>
            </a:prstGeom>
            <a:ln w="72000">
              <a:solidFill>
                <a:srgbClr val="b80047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Messages à empor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70920" cy="54514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1. Algorithme de recherche de che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Principe de propagation de valeur (accessi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lgorithme de L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Gestion de frontières (liste ouver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2. Manière de 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Comprendre le 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Résoudre exe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Ecrire les comment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Ecrire l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7092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Structure de labyrin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Recherche de che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lgorithme de Lee / la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utres problè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Structure de labyrin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Cf Code python four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Tableau à deux dim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2720" y="2895480"/>
            <a:ext cx="4356000" cy="35845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720" rIns="108720" tIns="78840" bIns="6372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 = [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 +=[[1,1,1,1,1,1,1,1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 +=[[1,0,0,1,0,0,0,1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 +=[[1,0,0,1,0,1,0,1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 +=[[1,0,1,1,1,1,0,1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 +=[[1,0,0,0,0,0,0,1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 +=[[1,1,0,1,1,0,1,1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 +=[[1,0,0,0,0,0,0,1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 +=[[1,1,1,1,1,1,1,1]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transpose(lab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laby[x][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867280" y="2879640"/>
            <a:ext cx="3598920" cy="3598920"/>
            <a:chOff x="5867280" y="2879640"/>
            <a:chExt cx="3598920" cy="3598920"/>
          </a:xfrm>
        </p:grpSpPr>
        <p:grpSp>
          <p:nvGrpSpPr>
            <p:cNvPr id="99" name=""/>
            <p:cNvGrpSpPr/>
            <p:nvPr/>
          </p:nvGrpSpPr>
          <p:grpSpPr>
            <a:xfrm>
              <a:off x="5867280" y="2879640"/>
              <a:ext cx="3598920" cy="3598920"/>
              <a:chOff x="5867280" y="2879640"/>
              <a:chExt cx="3598920" cy="3598920"/>
            </a:xfrm>
          </p:grpSpPr>
          <p:sp>
            <p:nvSpPr>
              <p:cNvPr id="100" name=""/>
              <p:cNvSpPr/>
              <p:nvPr/>
            </p:nvSpPr>
            <p:spPr>
              <a:xfrm>
                <a:off x="5867280" y="2879640"/>
                <a:ext cx="3598920" cy="898560"/>
              </a:xfrm>
              <a:prstGeom prst="rect">
                <a:avLst/>
              </a:prstGeom>
              <a:solidFill>
                <a:srgbClr val="ff99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588000" y="306072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28000" y="306072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67640" y="306072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207280" y="306072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748720" y="306072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7280" y="3780000"/>
                <a:ext cx="3598920" cy="898200"/>
              </a:xfrm>
              <a:prstGeom prst="rect">
                <a:avLst/>
              </a:prstGeom>
              <a:solidFill>
                <a:srgbClr val="ff99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88000" y="39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128000" y="39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667640" y="39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207280" y="39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748720" y="39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7280" y="4680000"/>
                <a:ext cx="3598920" cy="898560"/>
              </a:xfrm>
              <a:prstGeom prst="rect">
                <a:avLst/>
              </a:prstGeom>
              <a:solidFill>
                <a:srgbClr val="ff99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88000" y="48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28000" y="48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667640" y="48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207280" y="48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748720" y="48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67280" y="5580000"/>
                <a:ext cx="3598920" cy="898560"/>
              </a:xfrm>
              <a:prstGeom prst="rect">
                <a:avLst/>
              </a:prstGeom>
              <a:solidFill>
                <a:srgbClr val="ff9999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588000" y="57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28000" y="57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67640" y="57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207280" y="57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48720" y="5759280"/>
                <a:ext cx="538200" cy="538200"/>
              </a:xfrm>
              <a:prstGeom prst="rect">
                <a:avLst/>
              </a:prstGeom>
              <a:solidFill>
                <a:srgbClr val="ffcc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5940360" y="3095640"/>
              <a:ext cx="538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6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940360" y="3995640"/>
              <a:ext cx="538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6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940360" y="4897440"/>
              <a:ext cx="538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6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40360" y="5796000"/>
              <a:ext cx="5382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624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Arial"/>
                </a:rPr>
                <a:t>[3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08720" y="3060720"/>
              <a:ext cx="898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94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[0][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48360" y="3060720"/>
              <a:ext cx="898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94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[0][1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88360" y="3060720"/>
              <a:ext cx="898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94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[0][2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08720" y="3960720"/>
              <a:ext cx="898560" cy="5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94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[1][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408720" y="4861080"/>
              <a:ext cx="898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94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[2][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8720" y="5757840"/>
              <a:ext cx="898560" cy="53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9400" bIns="450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Arial"/>
                </a:rPr>
                <a:t>[3][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3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Ajoute des couts aux ar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Accélérer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Etendre à d'autres c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Théorie des grap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Tableau de coû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Exemple altitude sur les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joute coût de la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1" name=""/>
          <p:cNvGrpSpPr/>
          <p:nvPr/>
        </p:nvGrpSpPr>
        <p:grpSpPr>
          <a:xfrm>
            <a:off x="5580000" y="3446640"/>
            <a:ext cx="3417840" cy="3450960"/>
            <a:chOff x="5580000" y="3446640"/>
            <a:chExt cx="3417840" cy="3450960"/>
          </a:xfrm>
        </p:grpSpPr>
        <p:sp>
          <p:nvSpPr>
            <p:cNvPr id="1682" name=""/>
            <p:cNvSpPr/>
            <p:nvPr/>
          </p:nvSpPr>
          <p:spPr>
            <a:xfrm>
              <a:off x="6620040" y="3446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051680" y="3446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756400" y="3446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188040" y="3446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8348760" y="3446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485120" y="3446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916760" y="3446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620040" y="3878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7051680" y="3878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56400" y="3878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188040" y="3878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8348760" y="3878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7485120" y="3878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916760" y="3878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620040" y="4311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7051680" y="4311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756400" y="4311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188040" y="4311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8348760" y="4311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485120" y="4311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916760" y="4311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620040" y="4743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51680" y="4743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756400" y="4743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188040" y="4743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8348760" y="4743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485120" y="4743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916760" y="4743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620040" y="5175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051680" y="5175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756400" y="5175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88040" y="5175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348760" y="5175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7485120" y="5175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916760" y="5175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620040" y="5607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7051680" y="5607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5756400" y="5607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188040" y="5607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8348760" y="5607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485120" y="5607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916760" y="5607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620040" y="6039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051680" y="6039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5756400" y="6039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188040" y="6039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8348760" y="6039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485120" y="6039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916760" y="6039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5580000" y="6553080"/>
              <a:ext cx="341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ut = difference alt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2" name=""/>
          <p:cNvGrpSpPr/>
          <p:nvPr/>
        </p:nvGrpSpPr>
        <p:grpSpPr>
          <a:xfrm>
            <a:off x="1260360" y="3419640"/>
            <a:ext cx="3417840" cy="3450960"/>
            <a:chOff x="1260360" y="3419640"/>
            <a:chExt cx="3417840" cy="3450960"/>
          </a:xfrm>
        </p:grpSpPr>
        <p:sp>
          <p:nvSpPr>
            <p:cNvPr id="1733" name=""/>
            <p:cNvSpPr/>
            <p:nvPr/>
          </p:nvSpPr>
          <p:spPr>
            <a:xfrm>
              <a:off x="2300400" y="34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732040" y="34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436760" y="34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868400" y="34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4029120" y="34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64040" y="34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595680" y="34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300400" y="38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732040" y="38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436760" y="38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868400" y="38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4029120" y="38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164040" y="38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595680" y="38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2300400" y="42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732040" y="42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436760" y="42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868400" y="42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4029120" y="42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164040" y="42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3595680" y="42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300400" y="471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732040" y="471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436760" y="471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868400" y="471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029120" y="471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164040" y="471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595680" y="471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300400" y="5148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732040" y="5148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436760" y="5148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868400" y="5148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029120" y="5148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164040" y="5148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3595680" y="5148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300400" y="558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732040" y="558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436760" y="558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868400" y="558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029120" y="558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164040" y="558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3595680" y="558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300400" y="6012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732040" y="6012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436760" y="6012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868400" y="6012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029120" y="6012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164040" y="6012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595680" y="6012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260360" y="6526080"/>
              <a:ext cx="341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M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7380360" y="360360"/>
            <a:ext cx="2158920" cy="2490840"/>
            <a:chOff x="7380360" y="360360"/>
            <a:chExt cx="2158920" cy="2490840"/>
          </a:xfrm>
        </p:grpSpPr>
        <p:pic>
          <p:nvPicPr>
            <p:cNvPr id="1784" name="" descr=""/>
            <p:cNvPicPr/>
            <p:nvPr/>
          </p:nvPicPr>
          <p:blipFill>
            <a:blip r:embed="rId1"/>
            <a:stretch/>
          </p:blipFill>
          <p:spPr>
            <a:xfrm>
              <a:off x="7415280" y="360360"/>
              <a:ext cx="2065320" cy="2208240"/>
            </a:xfrm>
            <a:prstGeom prst="rect">
              <a:avLst/>
            </a:prstGeom>
            <a:ln w="38160">
              <a:solidFill>
                <a:srgbClr val="000000"/>
              </a:solidFill>
              <a:round/>
            </a:ln>
          </p:spPr>
        </p:pic>
        <p:sp>
          <p:nvSpPr>
            <p:cNvPr id="1785" name=""/>
            <p:cNvSpPr/>
            <p:nvPr/>
          </p:nvSpPr>
          <p:spPr>
            <a:xfrm>
              <a:off x="7380360" y="2592360"/>
              <a:ext cx="215892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58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Edsger Dijkstra (1930-200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éveloppe cases distance plus fa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Met à jour si valeur est meill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Al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Trier la liste ouverte par coû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Vérifier chemin réalis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Gar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Car coûts 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6227640" y="3567240"/>
            <a:ext cx="3417840" cy="3450960"/>
            <a:chOff x="6227640" y="3567240"/>
            <a:chExt cx="3417840" cy="3450960"/>
          </a:xfrm>
        </p:grpSpPr>
        <p:sp>
          <p:nvSpPr>
            <p:cNvPr id="1789" name=""/>
            <p:cNvSpPr/>
            <p:nvPr/>
          </p:nvSpPr>
          <p:spPr>
            <a:xfrm>
              <a:off x="726912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770112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404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83568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8996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8132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8564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26912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70112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404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83568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8996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132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564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26912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70112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404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83568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8996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8132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8564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26912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770112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404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83568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8996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8132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8564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26912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770112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404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83568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8996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132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8564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726912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70112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404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83568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8996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8132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8564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726912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770112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404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83568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996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8132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8564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227640" y="6673680"/>
              <a:ext cx="341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ût = différence alt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éveloppe cases distance plus fa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Met à jour si valeur est meill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1440000" y="3567240"/>
            <a:ext cx="3417840" cy="3450960"/>
            <a:chOff x="1440000" y="3567240"/>
            <a:chExt cx="3417840" cy="3450960"/>
          </a:xfrm>
        </p:grpSpPr>
        <p:sp>
          <p:nvSpPr>
            <p:cNvPr id="1842" name=""/>
            <p:cNvSpPr/>
            <p:nvPr/>
          </p:nvSpPr>
          <p:spPr>
            <a:xfrm>
              <a:off x="247968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91312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616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048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4208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344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776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47968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91312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616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2048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208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3344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3776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47968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91312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616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048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208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3344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776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47968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91312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616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048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4208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3344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3776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247968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91312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616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048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4208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3344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3776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247968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91312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616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48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208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344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776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247968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91312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616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2048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4208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344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776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440000" y="6673680"/>
              <a:ext cx="341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ût = différence alt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"/>
          <p:cNvGrpSpPr/>
          <p:nvPr/>
        </p:nvGrpSpPr>
        <p:grpSpPr>
          <a:xfrm>
            <a:off x="5400720" y="3567240"/>
            <a:ext cx="3417840" cy="3450960"/>
            <a:chOff x="5400720" y="3567240"/>
            <a:chExt cx="3417840" cy="3450960"/>
          </a:xfrm>
        </p:grpSpPr>
        <p:sp>
          <p:nvSpPr>
            <p:cNvPr id="1893" name=""/>
            <p:cNvSpPr/>
            <p:nvPr/>
          </p:nvSpPr>
          <p:spPr>
            <a:xfrm>
              <a:off x="6440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872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5576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008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816768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304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736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6440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6872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76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6008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16768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304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736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40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872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5576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008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816768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304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736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440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872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576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008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16768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304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7736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440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872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576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008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16768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7304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736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440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872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576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008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816768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7304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440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872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576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6008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816768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304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7736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400720" y="6673680"/>
              <a:ext cx="341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ist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7736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éveloppe cases distance plus fa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Met à jour si valeur est meill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5" name=""/>
          <p:cNvGrpSpPr/>
          <p:nvPr/>
        </p:nvGrpSpPr>
        <p:grpSpPr>
          <a:xfrm>
            <a:off x="1440000" y="3567240"/>
            <a:ext cx="3417840" cy="3450960"/>
            <a:chOff x="1440000" y="3567240"/>
            <a:chExt cx="3417840" cy="3450960"/>
          </a:xfrm>
        </p:grpSpPr>
        <p:sp>
          <p:nvSpPr>
            <p:cNvPr id="1946" name=""/>
            <p:cNvSpPr/>
            <p:nvPr/>
          </p:nvSpPr>
          <p:spPr>
            <a:xfrm>
              <a:off x="247968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91312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616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048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208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344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776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47968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91312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616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48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208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344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776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7968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91312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616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048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208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344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776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47968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91312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616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048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4208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344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3776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47968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91312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616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048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208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44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776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47968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91312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616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048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4208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344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776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47968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91312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616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048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4208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344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3776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440000" y="6673680"/>
              <a:ext cx="341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ût = différence alt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6" name=""/>
          <p:cNvGrpSpPr/>
          <p:nvPr/>
        </p:nvGrpSpPr>
        <p:grpSpPr>
          <a:xfrm>
            <a:off x="5400720" y="3567240"/>
            <a:ext cx="3417840" cy="3450960"/>
            <a:chOff x="5400720" y="3567240"/>
            <a:chExt cx="3417840" cy="3450960"/>
          </a:xfrm>
        </p:grpSpPr>
        <p:sp>
          <p:nvSpPr>
            <p:cNvPr id="1997" name=""/>
            <p:cNvSpPr/>
            <p:nvPr/>
          </p:nvSpPr>
          <p:spPr>
            <a:xfrm>
              <a:off x="6440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872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5576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008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816768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304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7736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6440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872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576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008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816768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7304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736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440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72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576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008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816768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7304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736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440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872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576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008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816768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304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736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40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872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5576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6008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816768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7304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736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6440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872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576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008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816768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7304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6440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6872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5576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6008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816768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304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36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400720" y="6673680"/>
              <a:ext cx="341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ist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7736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Princ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éveloppe cases distance plus fa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Met à jour si valeur est meille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9" name=""/>
          <p:cNvGrpSpPr/>
          <p:nvPr/>
        </p:nvGrpSpPr>
        <p:grpSpPr>
          <a:xfrm>
            <a:off x="1440000" y="3567240"/>
            <a:ext cx="3417840" cy="3450960"/>
            <a:chOff x="1440000" y="3567240"/>
            <a:chExt cx="3417840" cy="3450960"/>
          </a:xfrm>
        </p:grpSpPr>
        <p:sp>
          <p:nvSpPr>
            <p:cNvPr id="2050" name=""/>
            <p:cNvSpPr/>
            <p:nvPr/>
          </p:nvSpPr>
          <p:spPr>
            <a:xfrm>
              <a:off x="247968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91312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1616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048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208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344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776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47968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91312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616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048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208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344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776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47968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91312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616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048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208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344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776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47968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91312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616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048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4208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344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776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47968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91312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616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048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208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344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776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47968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91312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616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048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4208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344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776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47968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91312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616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2048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208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344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776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440000" y="6673680"/>
              <a:ext cx="341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Coût = différence altitu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0" name=""/>
          <p:cNvGrpSpPr/>
          <p:nvPr/>
        </p:nvGrpSpPr>
        <p:grpSpPr>
          <a:xfrm>
            <a:off x="5400720" y="3567240"/>
            <a:ext cx="3417840" cy="3450960"/>
            <a:chOff x="5400720" y="3567240"/>
            <a:chExt cx="3417840" cy="3450960"/>
          </a:xfrm>
        </p:grpSpPr>
        <p:sp>
          <p:nvSpPr>
            <p:cNvPr id="2101" name=""/>
            <p:cNvSpPr/>
            <p:nvPr/>
          </p:nvSpPr>
          <p:spPr>
            <a:xfrm>
              <a:off x="6440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87240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5576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00876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816768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7304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736040" y="35672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440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7240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5576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00876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16768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7304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7736040" y="3998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440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687240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576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00876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16768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304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736040" y="44308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440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687240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576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00876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16768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304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736040" y="48625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6440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687240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9999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5576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00876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16768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304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36040" y="5294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440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87240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5576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00876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16768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7304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7736040" y="57261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99ff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440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687240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5576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00876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16768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304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736040" y="615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5400720" y="6673680"/>
              <a:ext cx="341784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Distan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736040" y="5726160"/>
              <a:ext cx="430200" cy="430200"/>
            </a:xfrm>
            <a:custGeom>
              <a:avLst/>
              <a:gdLst/>
              <a:ahLst/>
              <a:rect l="l" t="t" r="r" b="b"/>
              <a:pathLst>
                <a:path w="1201" h="1201">
                  <a:moveTo>
                    <a:pt x="0" y="0"/>
                  </a:moveTo>
                  <a:lnTo>
                    <a:pt x="0" y="1200"/>
                  </a:lnTo>
                  <a:lnTo>
                    <a:pt x="1200" y="1200"/>
                  </a:lnTo>
                  <a:lnTo>
                    <a:pt x="0" y="0"/>
                  </a:lnTo>
                </a:path>
              </a:pathLst>
            </a:custGeom>
            <a:noFill/>
            <a:ln w="29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864560" y="5726160"/>
              <a:ext cx="3636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58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680240" y="5913360"/>
              <a:ext cx="363600" cy="43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580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"/>
          <p:cNvSpPr/>
          <p:nvPr/>
        </p:nvSpPr>
        <p:spPr>
          <a:xfrm>
            <a:off x="8137440" y="5761080"/>
            <a:ext cx="914400" cy="365040"/>
          </a:xfrm>
          <a:prstGeom prst="leftArrow">
            <a:avLst>
              <a:gd name="adj1" fmla="val 50000"/>
              <a:gd name="adj2" fmla="val 62623"/>
            </a:avLst>
          </a:prstGeom>
          <a:solidFill>
            <a:srgbClr val="99ff99"/>
          </a:solidFill>
          <a:ln w="381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3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Ajoute des couts aux ar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Accélérer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Etendre à d'autres c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Théorie des grap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9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160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227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294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8" name=""/>
          <p:cNvSpPr/>
          <p:nvPr/>
        </p:nvSpPr>
        <p:spPr>
          <a:xfrm flipV="1">
            <a:off x="4716360" y="2879280"/>
            <a:ext cx="1800" cy="252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4138560" y="2808360"/>
            <a:ext cx="542880" cy="14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 flipH="1">
            <a:off x="4146120" y="2556000"/>
            <a:ext cx="1614600" cy="14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5904000" y="2698560"/>
            <a:ext cx="1440" cy="27032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319640" y="3780000"/>
            <a:ext cx="4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5499000" y="3792600"/>
            <a:ext cx="4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70920" cy="519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Structure de labyrin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Recherche de che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lgorithme de Lee / la va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utres problè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6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367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V="1">
              <a:off x="4715640" y="5038560"/>
              <a:ext cx="0" cy="362160"/>
            </a:xfrm>
            <a:prstGeom prst="line">
              <a:avLst/>
            </a:prstGeom>
            <a:ln w="7200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H="1">
              <a:off x="4137480" y="5580000"/>
              <a:ext cx="361800" cy="0"/>
            </a:xfrm>
            <a:prstGeom prst="line">
              <a:avLst/>
            </a:prstGeom>
            <a:ln w="72000">
              <a:solidFill>
                <a:srgbClr val="008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436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0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2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503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7" name=""/>
          <p:cNvSpPr/>
          <p:nvPr/>
        </p:nvSpPr>
        <p:spPr>
          <a:xfrm flipV="1">
            <a:off x="5867280" y="2879280"/>
            <a:ext cx="1800" cy="252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"/>
          <p:cNvSpPr/>
          <p:nvPr/>
        </p:nvSpPr>
        <p:spPr>
          <a:xfrm flipV="1">
            <a:off x="4103640" y="2887200"/>
            <a:ext cx="1800" cy="252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"/>
          <p:cNvSpPr/>
          <p:nvPr/>
        </p:nvSpPr>
        <p:spPr>
          <a:xfrm flipH="1">
            <a:off x="4138560" y="2700360"/>
            <a:ext cx="1803600" cy="14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"/>
          <p:cNvSpPr/>
          <p:nvPr/>
        </p:nvSpPr>
        <p:spPr>
          <a:xfrm>
            <a:off x="4059360" y="3792600"/>
            <a:ext cx="4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"/>
          <p:cNvSpPr/>
          <p:nvPr/>
        </p:nvSpPr>
        <p:spPr>
          <a:xfrm>
            <a:off x="5857920" y="3780000"/>
            <a:ext cx="4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4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575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9" name=""/>
          <p:cNvSpPr/>
          <p:nvPr/>
        </p:nvSpPr>
        <p:spPr>
          <a:xfrm flipV="1">
            <a:off x="5867280" y="2879280"/>
            <a:ext cx="1800" cy="252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"/>
          <p:cNvSpPr/>
          <p:nvPr/>
        </p:nvSpPr>
        <p:spPr>
          <a:xfrm flipV="1">
            <a:off x="4103640" y="2887200"/>
            <a:ext cx="1800" cy="252252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"/>
          <p:cNvSpPr/>
          <p:nvPr/>
        </p:nvSpPr>
        <p:spPr>
          <a:xfrm flipH="1">
            <a:off x="4138560" y="2700360"/>
            <a:ext cx="1803600" cy="14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"/>
          <p:cNvSpPr/>
          <p:nvPr/>
        </p:nvSpPr>
        <p:spPr>
          <a:xfrm>
            <a:off x="4059360" y="3792600"/>
            <a:ext cx="4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5857920" y="3780000"/>
            <a:ext cx="4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6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647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3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714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8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0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781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7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848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4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915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1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2982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5364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103640" y="2592360"/>
            <a:ext cx="3454560" cy="3454560"/>
            <a:chOff x="4103640" y="2592360"/>
            <a:chExt cx="3454560" cy="3454560"/>
          </a:xfrm>
        </p:grpSpPr>
        <p:sp>
          <p:nvSpPr>
            <p:cNvPr id="139" name=""/>
            <p:cNvSpPr/>
            <p:nvPr/>
          </p:nvSpPr>
          <p:spPr>
            <a:xfrm>
              <a:off x="4967280" y="2592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98920" y="259236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3640" y="2592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35640" y="2592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96000" y="2592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28000" y="2592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0920" y="2592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64360" y="2592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67280" y="3024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98920" y="302436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103640" y="3024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35640" y="3024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96000" y="3024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128000" y="3024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30920" y="3024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64360" y="3024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967280" y="3456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98920" y="345600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03640" y="3456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5640" y="3456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96000" y="3456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28000" y="3456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830920" y="3456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64360" y="3456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67280" y="3887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98920" y="388764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03640" y="3887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5640" y="3887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96000" y="3887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28000" y="3887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0920" y="3887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264360" y="3887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67280" y="43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98920" y="431964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03640" y="43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35640" y="43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96000" y="43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128000" y="43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830920" y="43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4360" y="4319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67280" y="47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98920" y="475128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03640" y="47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35640" y="47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696000" y="47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8000" y="47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830920" y="47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264360" y="4751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67280" y="51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8920" y="518472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103640" y="51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35640" y="51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96000" y="51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128000" y="51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30920" y="51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264360" y="5184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67280" y="5616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98920" y="561672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103640" y="5616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35640" y="5616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96000" y="5616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128000" y="5616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830920" y="5616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264360" y="5616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 flipH="1">
            <a:off x="1619280" y="5148360"/>
            <a:ext cx="1541520" cy="792000"/>
          </a:xfrm>
          <a:prstGeom prst="borderCallout1">
            <a:avLst>
              <a:gd name="adj1" fmla="val 18750"/>
              <a:gd name="adj2" fmla="val -8333"/>
              <a:gd name="adj3" fmla="val 30666"/>
              <a:gd name="adj4" fmla="val -185467"/>
            </a:avLst>
          </a:prstGeom>
          <a:solidFill>
            <a:srgbClr val="99ccff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619280" y="2879640"/>
            <a:ext cx="1541520" cy="792360"/>
          </a:xfrm>
          <a:prstGeom prst="borderCallout1">
            <a:avLst>
              <a:gd name="adj1" fmla="val 18750"/>
              <a:gd name="adj2" fmla="val -8333"/>
              <a:gd name="adj3" fmla="val 47976"/>
              <a:gd name="adj4" fmla="val -128754"/>
            </a:avLst>
          </a:prstGeom>
          <a:solidFill>
            <a:srgbClr val="ff3366"/>
          </a:solidFill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8840" bIns="63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rriv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8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049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5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116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0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1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182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1979640" y="6573960"/>
            <a:ext cx="6524640" cy="4460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Conclusion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8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249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1979640" y="6573960"/>
            <a:ext cx="6524640" cy="4460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Conclusion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5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316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00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0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Changement labyrin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 type="subTitle"/>
          </p:nvPr>
        </p:nvSpPr>
        <p:spPr>
          <a:xfrm>
            <a:off x="502920" y="1476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Changement labyrin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4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385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1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452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8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519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5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586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0" name=""/>
          <p:cNvSpPr/>
          <p:nvPr/>
        </p:nvSpPr>
        <p:spPr>
          <a:xfrm flipV="1">
            <a:off x="4716360" y="2878200"/>
            <a:ext cx="1800" cy="12636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 flipH="1">
            <a:off x="4317840" y="2782800"/>
            <a:ext cx="36360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 flipH="1">
            <a:off x="4327200" y="2567160"/>
            <a:ext cx="1614600" cy="14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5940360" y="2627280"/>
            <a:ext cx="1800" cy="288288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4680000" y="3600360"/>
            <a:ext cx="441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5940360" y="3613320"/>
            <a:ext cx="4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Quel est le chemin le plus cour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119640" y="2560680"/>
            <a:ext cx="3454560" cy="3454200"/>
            <a:chOff x="6119640" y="2560680"/>
            <a:chExt cx="3454560" cy="3454200"/>
          </a:xfrm>
        </p:grpSpPr>
        <p:sp>
          <p:nvSpPr>
            <p:cNvPr id="208" name=""/>
            <p:cNvSpPr/>
            <p:nvPr/>
          </p:nvSpPr>
          <p:spPr>
            <a:xfrm>
              <a:off x="698328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1528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19640" y="256068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55164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71236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14400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4872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28036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8328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1528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19640" y="299232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5164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71236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14400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84872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8036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8328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1528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19640" y="342432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164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71236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84872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28036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8328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1528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19640" y="385596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5164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71236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14400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84872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28036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28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41528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19640" y="428796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5164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71236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914400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84872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036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8328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1528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119640" y="471960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55164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71236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914400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84872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8036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8328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41528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119640" y="515304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55164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71236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14400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84872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8036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98328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1528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9640" y="558468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5164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71236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914400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84872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8036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8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659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3" name=""/>
          <p:cNvSpPr/>
          <p:nvPr/>
        </p:nvSpPr>
        <p:spPr>
          <a:xfrm flipV="1">
            <a:off x="4716360" y="2878200"/>
            <a:ext cx="1800" cy="12636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"/>
          <p:cNvSpPr/>
          <p:nvPr/>
        </p:nvSpPr>
        <p:spPr>
          <a:xfrm flipH="1">
            <a:off x="4317840" y="2782800"/>
            <a:ext cx="363600" cy="180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"/>
          <p:cNvSpPr/>
          <p:nvPr/>
        </p:nvSpPr>
        <p:spPr>
          <a:xfrm flipH="1">
            <a:off x="4327200" y="2567160"/>
            <a:ext cx="1614600" cy="144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"/>
          <p:cNvSpPr/>
          <p:nvPr/>
        </p:nvSpPr>
        <p:spPr>
          <a:xfrm flipV="1">
            <a:off x="5940360" y="2627280"/>
            <a:ext cx="1800" cy="2882880"/>
          </a:xfrm>
          <a:prstGeom prst="line">
            <a:avLst/>
          </a:prstGeom>
          <a:ln w="3600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"/>
          <p:cNvSpPr/>
          <p:nvPr/>
        </p:nvSpPr>
        <p:spPr>
          <a:xfrm>
            <a:off x="4680000" y="3600360"/>
            <a:ext cx="441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5940360" y="3613320"/>
            <a:ext cx="4413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1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732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e6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8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799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23ff23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5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866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2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3933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c0c0c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9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4000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"/>
          <p:cNvSpPr/>
          <p:nvPr/>
        </p:nvSpPr>
        <p:spPr>
          <a:xfrm>
            <a:off x="1979640" y="6480000"/>
            <a:ext cx="65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 + optimis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6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4067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23ff23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Démo étudiant D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3 Exten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6562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Ajoute des couts aux ar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Dijks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Accélérer la reche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lgorithme A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Etendre à d'autres cad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Théorie des grap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5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roblème labyrin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56419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Structure particul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Cases côtes à cô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Connexité fix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Coûts d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De manière plus géné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Graphe (Noeuds + Ar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Algorithmes ident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Vraie question : Modélisation du proble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7" name=""/>
          <p:cNvGrpSpPr/>
          <p:nvPr/>
        </p:nvGrpSpPr>
        <p:grpSpPr>
          <a:xfrm>
            <a:off x="5943600" y="1476360"/>
            <a:ext cx="3454560" cy="3454560"/>
            <a:chOff x="5943600" y="1476360"/>
            <a:chExt cx="3454560" cy="3454560"/>
          </a:xfrm>
        </p:grpSpPr>
        <p:sp>
          <p:nvSpPr>
            <p:cNvPr id="4138" name=""/>
            <p:cNvSpPr/>
            <p:nvPr/>
          </p:nvSpPr>
          <p:spPr>
            <a:xfrm>
              <a:off x="6807240" y="147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7238880" y="147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943600" y="147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6375240" y="147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8535960" y="147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8967960" y="147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7672320" y="147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8104320" y="14763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6807240" y="1908000"/>
              <a:ext cx="430200" cy="430560"/>
            </a:xfrm>
            <a:custGeom>
              <a:avLst/>
              <a:gdLst>
                <a:gd name="textAreaLeft" fmla="*/ 360 w 430200"/>
                <a:gd name="textAreaRight" fmla="*/ 429840 w 430200"/>
                <a:gd name="textAreaTop" fmla="*/ 360 h 430560"/>
                <a:gd name="textAreaBottom" fmla="*/ 430200 h 430560"/>
              </a:gdLst>
              <a:ahLst/>
              <a:rect l="textAreaLeft" t="textAreaTop" r="textAreaRight" b="textAreaBottom"/>
              <a:pathLst>
                <a:path w="21600" h="21618">
                  <a:moveTo>
                    <a:pt x="79" y="0"/>
                  </a:moveTo>
                  <a:arcTo wR="79" hR="79" stAng="16200000" swAng="-5400000"/>
                  <a:lnTo>
                    <a:pt x="0" y="21539"/>
                  </a:lnTo>
                  <a:arcTo wR="79" hR="79" stAng="10800000" swAng="-5400000"/>
                  <a:lnTo>
                    <a:pt x="21521" y="21618"/>
                  </a:lnTo>
                  <a:arcTo wR="79" hR="79" stAng="5400000" swAng="-5400000"/>
                  <a:lnTo>
                    <a:pt x="21600" y="79"/>
                  </a:lnTo>
                  <a:arcTo wR="79" hR="79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7238880" y="1908000"/>
              <a:ext cx="430200" cy="430560"/>
            </a:xfrm>
            <a:custGeom>
              <a:avLst/>
              <a:gdLst>
                <a:gd name="textAreaLeft" fmla="*/ 360 w 430200"/>
                <a:gd name="textAreaRight" fmla="*/ 429840 w 430200"/>
                <a:gd name="textAreaTop" fmla="*/ 360 h 430560"/>
                <a:gd name="textAreaBottom" fmla="*/ 430200 h 430560"/>
              </a:gdLst>
              <a:ahLst/>
              <a:rect l="textAreaLeft" t="textAreaTop" r="textAreaRight" b="textAreaBottom"/>
              <a:pathLst>
                <a:path w="21600" h="21618">
                  <a:moveTo>
                    <a:pt x="79" y="0"/>
                  </a:moveTo>
                  <a:arcTo wR="79" hR="79" stAng="16200000" swAng="-5400000"/>
                  <a:lnTo>
                    <a:pt x="0" y="21539"/>
                  </a:lnTo>
                  <a:arcTo wR="79" hR="79" stAng="10800000" swAng="-5400000"/>
                  <a:lnTo>
                    <a:pt x="21521" y="21618"/>
                  </a:lnTo>
                  <a:arcTo wR="79" hR="79" stAng="5400000" swAng="-5400000"/>
                  <a:lnTo>
                    <a:pt x="21600" y="79"/>
                  </a:lnTo>
                  <a:arcTo wR="79" hR="79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943600" y="1908000"/>
              <a:ext cx="430200" cy="430560"/>
            </a:xfrm>
            <a:custGeom>
              <a:avLst/>
              <a:gdLst>
                <a:gd name="textAreaLeft" fmla="*/ 360 w 430200"/>
                <a:gd name="textAreaRight" fmla="*/ 429840 w 430200"/>
                <a:gd name="textAreaTop" fmla="*/ 360 h 430560"/>
                <a:gd name="textAreaBottom" fmla="*/ 430200 h 430560"/>
              </a:gdLst>
              <a:ahLst/>
              <a:rect l="textAreaLeft" t="textAreaTop" r="textAreaRight" b="textAreaBottom"/>
              <a:pathLst>
                <a:path w="21600" h="21618">
                  <a:moveTo>
                    <a:pt x="79" y="0"/>
                  </a:moveTo>
                  <a:arcTo wR="79" hR="79" stAng="16200000" swAng="-5400000"/>
                  <a:lnTo>
                    <a:pt x="0" y="21539"/>
                  </a:lnTo>
                  <a:arcTo wR="79" hR="79" stAng="10800000" swAng="-5400000"/>
                  <a:lnTo>
                    <a:pt x="21521" y="21618"/>
                  </a:lnTo>
                  <a:arcTo wR="79" hR="79" stAng="5400000" swAng="-5400000"/>
                  <a:lnTo>
                    <a:pt x="21600" y="79"/>
                  </a:lnTo>
                  <a:arcTo wR="79" hR="79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6375240" y="1908000"/>
              <a:ext cx="430200" cy="430560"/>
            </a:xfrm>
            <a:custGeom>
              <a:avLst/>
              <a:gdLst>
                <a:gd name="textAreaLeft" fmla="*/ 360 w 430200"/>
                <a:gd name="textAreaRight" fmla="*/ 429840 w 430200"/>
                <a:gd name="textAreaTop" fmla="*/ 360 h 430560"/>
                <a:gd name="textAreaBottom" fmla="*/ 430200 h 430560"/>
              </a:gdLst>
              <a:ahLst/>
              <a:rect l="textAreaLeft" t="textAreaTop" r="textAreaRight" b="textAreaBottom"/>
              <a:pathLst>
                <a:path w="21600" h="21618">
                  <a:moveTo>
                    <a:pt x="79" y="0"/>
                  </a:moveTo>
                  <a:arcTo wR="79" hR="79" stAng="16200000" swAng="-5400000"/>
                  <a:lnTo>
                    <a:pt x="0" y="21539"/>
                  </a:lnTo>
                  <a:arcTo wR="79" hR="79" stAng="10800000" swAng="-5400000"/>
                  <a:lnTo>
                    <a:pt x="21521" y="21618"/>
                  </a:lnTo>
                  <a:arcTo wR="79" hR="79" stAng="5400000" swAng="-5400000"/>
                  <a:lnTo>
                    <a:pt x="21600" y="79"/>
                  </a:lnTo>
                  <a:arcTo wR="79" hR="79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8535960" y="1908000"/>
              <a:ext cx="430200" cy="430560"/>
            </a:xfrm>
            <a:custGeom>
              <a:avLst/>
              <a:gdLst>
                <a:gd name="textAreaLeft" fmla="*/ 360 w 430200"/>
                <a:gd name="textAreaRight" fmla="*/ 429840 w 430200"/>
                <a:gd name="textAreaTop" fmla="*/ 360 h 430560"/>
                <a:gd name="textAreaBottom" fmla="*/ 430200 h 430560"/>
              </a:gdLst>
              <a:ahLst/>
              <a:rect l="textAreaLeft" t="textAreaTop" r="textAreaRight" b="textAreaBottom"/>
              <a:pathLst>
                <a:path w="21600" h="21618">
                  <a:moveTo>
                    <a:pt x="79" y="0"/>
                  </a:moveTo>
                  <a:arcTo wR="79" hR="79" stAng="16200000" swAng="-5400000"/>
                  <a:lnTo>
                    <a:pt x="0" y="21539"/>
                  </a:lnTo>
                  <a:arcTo wR="79" hR="79" stAng="10800000" swAng="-5400000"/>
                  <a:lnTo>
                    <a:pt x="21521" y="21618"/>
                  </a:lnTo>
                  <a:arcTo wR="79" hR="79" stAng="5400000" swAng="-5400000"/>
                  <a:lnTo>
                    <a:pt x="21600" y="79"/>
                  </a:lnTo>
                  <a:arcTo wR="79" hR="79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8967960" y="1908000"/>
              <a:ext cx="430200" cy="430560"/>
            </a:xfrm>
            <a:custGeom>
              <a:avLst/>
              <a:gdLst>
                <a:gd name="textAreaLeft" fmla="*/ 360 w 430200"/>
                <a:gd name="textAreaRight" fmla="*/ 429840 w 430200"/>
                <a:gd name="textAreaTop" fmla="*/ 360 h 430560"/>
                <a:gd name="textAreaBottom" fmla="*/ 430200 h 430560"/>
              </a:gdLst>
              <a:ahLst/>
              <a:rect l="textAreaLeft" t="textAreaTop" r="textAreaRight" b="textAreaBottom"/>
              <a:pathLst>
                <a:path w="21600" h="21618">
                  <a:moveTo>
                    <a:pt x="79" y="0"/>
                  </a:moveTo>
                  <a:arcTo wR="79" hR="79" stAng="16200000" swAng="-5400000"/>
                  <a:lnTo>
                    <a:pt x="0" y="21539"/>
                  </a:lnTo>
                  <a:arcTo wR="79" hR="79" stAng="10800000" swAng="-5400000"/>
                  <a:lnTo>
                    <a:pt x="21521" y="21618"/>
                  </a:lnTo>
                  <a:arcTo wR="79" hR="79" stAng="5400000" swAng="-5400000"/>
                  <a:lnTo>
                    <a:pt x="21600" y="79"/>
                  </a:lnTo>
                  <a:arcTo wR="79" hR="79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7672320" y="1908000"/>
              <a:ext cx="430200" cy="430560"/>
            </a:xfrm>
            <a:custGeom>
              <a:avLst/>
              <a:gdLst>
                <a:gd name="textAreaLeft" fmla="*/ 360 w 430200"/>
                <a:gd name="textAreaRight" fmla="*/ 429840 w 430200"/>
                <a:gd name="textAreaTop" fmla="*/ 360 h 430560"/>
                <a:gd name="textAreaBottom" fmla="*/ 430200 h 430560"/>
              </a:gdLst>
              <a:ahLst/>
              <a:rect l="textAreaLeft" t="textAreaTop" r="textAreaRight" b="textAreaBottom"/>
              <a:pathLst>
                <a:path w="21600" h="21618">
                  <a:moveTo>
                    <a:pt x="79" y="0"/>
                  </a:moveTo>
                  <a:arcTo wR="79" hR="79" stAng="16200000" swAng="-5400000"/>
                  <a:lnTo>
                    <a:pt x="0" y="21539"/>
                  </a:lnTo>
                  <a:arcTo wR="79" hR="79" stAng="10800000" swAng="-5400000"/>
                  <a:lnTo>
                    <a:pt x="21521" y="21618"/>
                  </a:lnTo>
                  <a:arcTo wR="79" hR="79" stAng="5400000" swAng="-5400000"/>
                  <a:lnTo>
                    <a:pt x="21600" y="79"/>
                  </a:lnTo>
                  <a:arcTo wR="79" hR="79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8104320" y="1908000"/>
              <a:ext cx="430200" cy="430560"/>
            </a:xfrm>
            <a:custGeom>
              <a:avLst/>
              <a:gdLst>
                <a:gd name="textAreaLeft" fmla="*/ 360 w 430200"/>
                <a:gd name="textAreaRight" fmla="*/ 429840 w 430200"/>
                <a:gd name="textAreaTop" fmla="*/ 360 h 430560"/>
                <a:gd name="textAreaBottom" fmla="*/ 430200 h 430560"/>
              </a:gdLst>
              <a:ahLst/>
              <a:rect l="textAreaLeft" t="textAreaTop" r="textAreaRight" b="textAreaBottom"/>
              <a:pathLst>
                <a:path w="21600" h="21618">
                  <a:moveTo>
                    <a:pt x="79" y="0"/>
                  </a:moveTo>
                  <a:arcTo wR="79" hR="79" stAng="16200000" swAng="-5400000"/>
                  <a:lnTo>
                    <a:pt x="0" y="21539"/>
                  </a:lnTo>
                  <a:arcTo wR="79" hR="79" stAng="10800000" swAng="-5400000"/>
                  <a:lnTo>
                    <a:pt x="21521" y="21618"/>
                  </a:lnTo>
                  <a:arcTo wR="79" hR="79" stAng="5400000" swAng="-5400000"/>
                  <a:lnTo>
                    <a:pt x="21600" y="79"/>
                  </a:lnTo>
                  <a:arcTo wR="79" hR="79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6807240" y="234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7238880" y="234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943600" y="234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6375240" y="234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8535960" y="234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8967960" y="234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7672320" y="234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8104320" y="23400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6807240" y="2771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7238880" y="2771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5943600" y="2771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6375240" y="2771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8535960" y="2771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8967960" y="2771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7672320" y="2771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8104320" y="2771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807240" y="3203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7238880" y="3203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943600" y="3203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6375240" y="3203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8535960" y="3203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8967960" y="3203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7672320" y="3203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8104320" y="32036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807240" y="3635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7238880" y="3635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943600" y="3635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6375240" y="3635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535960" y="3635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8967960" y="3635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7672320" y="3635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8104320" y="36352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6807240" y="4068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7238880" y="4068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943600" y="4068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6375240" y="4068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8535960" y="4068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8967960" y="4068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7672320" y="4068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8104320" y="4068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6807240" y="4500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7238880" y="4500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943600" y="4500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6375240" y="4500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8535960" y="4500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8967960" y="4500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7672320" y="4500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8104320" y="45007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Quel est le chemin le plus cour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Pourquoi diffici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Solution possible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119640" y="2560680"/>
            <a:ext cx="3454560" cy="3454200"/>
            <a:chOff x="6119640" y="2560680"/>
            <a:chExt cx="3454560" cy="3454200"/>
          </a:xfrm>
        </p:grpSpPr>
        <p:sp>
          <p:nvSpPr>
            <p:cNvPr id="275" name=""/>
            <p:cNvSpPr/>
            <p:nvPr/>
          </p:nvSpPr>
          <p:spPr>
            <a:xfrm>
              <a:off x="698328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41528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119640" y="256068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5164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71236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14400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84872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8036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8328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41528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19640" y="299232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55164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71236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14400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4872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8036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98328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41528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19640" y="342432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5164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71236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4400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4872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8036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98328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1528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119640" y="385596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5164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71236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14400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84872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28036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8328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41528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19640" y="428796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5164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71236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14400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84872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8036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8328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41528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19640" y="471960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164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1236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914400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4872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28036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98328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1528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119640" y="515304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164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71236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4400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84872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28036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8328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41528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19640" y="558468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5164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71236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14400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84872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28036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robl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70920" cy="58914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Robot qui va chercher un caf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3 pièces qui se sui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Cafetière au f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Possibilité de déplacer, prendre, po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4" name=""/>
          <p:cNvGrpSpPr/>
          <p:nvPr/>
        </p:nvGrpSpPr>
        <p:grpSpPr>
          <a:xfrm>
            <a:off x="2286000" y="4389480"/>
            <a:ext cx="5675400" cy="1797840"/>
            <a:chOff x="2286000" y="4389480"/>
            <a:chExt cx="5675400" cy="1797840"/>
          </a:xfrm>
        </p:grpSpPr>
        <p:grpSp>
          <p:nvGrpSpPr>
            <p:cNvPr id="4205" name=""/>
            <p:cNvGrpSpPr/>
            <p:nvPr/>
          </p:nvGrpSpPr>
          <p:grpSpPr>
            <a:xfrm>
              <a:off x="2286000" y="4803840"/>
              <a:ext cx="5398920" cy="1383480"/>
              <a:chOff x="2286000" y="4803840"/>
              <a:chExt cx="5398920" cy="1383480"/>
            </a:xfrm>
          </p:grpSpPr>
          <p:sp>
            <p:nvSpPr>
              <p:cNvPr id="4206" name=""/>
              <p:cNvSpPr/>
              <p:nvPr/>
            </p:nvSpPr>
            <p:spPr>
              <a:xfrm>
                <a:off x="2286000" y="4803840"/>
                <a:ext cx="1798560" cy="1383480"/>
              </a:xfrm>
              <a:prstGeom prst="rect">
                <a:avLst/>
              </a:prstGeom>
              <a:solidFill>
                <a:srgbClr val="729fc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4086360" y="4803840"/>
                <a:ext cx="1798560" cy="1383480"/>
              </a:xfrm>
              <a:prstGeom prst="rect">
                <a:avLst/>
              </a:prstGeom>
              <a:solidFill>
                <a:srgbClr val="729fc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5886360" y="4803840"/>
                <a:ext cx="1798560" cy="1383480"/>
              </a:xfrm>
              <a:prstGeom prst="rect">
                <a:avLst/>
              </a:prstGeom>
              <a:solidFill>
                <a:srgbClr val="729fc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9" name=""/>
            <p:cNvSpPr/>
            <p:nvPr/>
          </p:nvSpPr>
          <p:spPr>
            <a:xfrm>
              <a:off x="2424240" y="5220000"/>
              <a:ext cx="690480" cy="690840"/>
            </a:xfrm>
            <a:prstGeom prst="smileyFace">
              <a:avLst>
                <a:gd name="adj" fmla="val 9282"/>
              </a:avLst>
            </a:prstGeom>
            <a:solidFill>
              <a:srgbClr val="ff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670200" y="5220000"/>
              <a:ext cx="828720" cy="552960"/>
            </a:xfrm>
            <a:prstGeom prst="leftRightArrow">
              <a:avLst>
                <a:gd name="adj1" fmla="val 50000"/>
                <a:gd name="adj2" fmla="val 29835"/>
              </a:avLst>
            </a:prstGeom>
            <a:solidFill>
              <a:srgbClr val="ff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470560" y="5220000"/>
              <a:ext cx="828720" cy="552960"/>
            </a:xfrm>
            <a:prstGeom prst="leftRightArrow">
              <a:avLst>
                <a:gd name="adj1" fmla="val 50000"/>
                <a:gd name="adj2" fmla="val 29835"/>
              </a:avLst>
            </a:prstGeom>
            <a:solidFill>
              <a:srgbClr val="ff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2" name="" descr=""/>
            <p:cNvPicPr/>
            <p:nvPr/>
          </p:nvPicPr>
          <p:blipFill>
            <a:blip r:embed="rId1"/>
            <a:stretch/>
          </p:blipFill>
          <p:spPr>
            <a:xfrm>
              <a:off x="6854760" y="4389480"/>
              <a:ext cx="1106640" cy="1107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3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robl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Robot qui va chercher un caf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Modélisation du probl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5" name=""/>
          <p:cNvGrpSpPr/>
          <p:nvPr/>
        </p:nvGrpSpPr>
        <p:grpSpPr>
          <a:xfrm>
            <a:off x="2286000" y="3292560"/>
            <a:ext cx="5675400" cy="1797840"/>
            <a:chOff x="2286000" y="3292560"/>
            <a:chExt cx="5675400" cy="1797840"/>
          </a:xfrm>
        </p:grpSpPr>
        <p:grpSp>
          <p:nvGrpSpPr>
            <p:cNvPr id="4216" name=""/>
            <p:cNvGrpSpPr/>
            <p:nvPr/>
          </p:nvGrpSpPr>
          <p:grpSpPr>
            <a:xfrm>
              <a:off x="2286000" y="3706920"/>
              <a:ext cx="5398920" cy="1383480"/>
              <a:chOff x="2286000" y="3706920"/>
              <a:chExt cx="5398920" cy="1383480"/>
            </a:xfrm>
          </p:grpSpPr>
          <p:sp>
            <p:nvSpPr>
              <p:cNvPr id="4217" name=""/>
              <p:cNvSpPr/>
              <p:nvPr/>
            </p:nvSpPr>
            <p:spPr>
              <a:xfrm>
                <a:off x="2286000" y="3706920"/>
                <a:ext cx="1798560" cy="1383480"/>
              </a:xfrm>
              <a:prstGeom prst="rect">
                <a:avLst/>
              </a:prstGeom>
              <a:solidFill>
                <a:srgbClr val="729fc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4086360" y="3706920"/>
                <a:ext cx="1798560" cy="1383480"/>
              </a:xfrm>
              <a:prstGeom prst="rect">
                <a:avLst/>
              </a:prstGeom>
              <a:solidFill>
                <a:srgbClr val="729fc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5886360" y="3706920"/>
                <a:ext cx="1798560" cy="1383480"/>
              </a:xfrm>
              <a:prstGeom prst="rect">
                <a:avLst/>
              </a:prstGeom>
              <a:solidFill>
                <a:srgbClr val="729fc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0" name=""/>
            <p:cNvSpPr/>
            <p:nvPr/>
          </p:nvSpPr>
          <p:spPr>
            <a:xfrm>
              <a:off x="2424240" y="4123080"/>
              <a:ext cx="690480" cy="690840"/>
            </a:xfrm>
            <a:prstGeom prst="smileyFace">
              <a:avLst>
                <a:gd name="adj" fmla="val 9282"/>
              </a:avLst>
            </a:prstGeom>
            <a:solidFill>
              <a:srgbClr val="ff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3670200" y="4123080"/>
              <a:ext cx="828720" cy="552960"/>
            </a:xfrm>
            <a:prstGeom prst="leftRightArrow">
              <a:avLst>
                <a:gd name="adj1" fmla="val 50000"/>
                <a:gd name="adj2" fmla="val 29835"/>
              </a:avLst>
            </a:prstGeom>
            <a:solidFill>
              <a:srgbClr val="ff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470560" y="4123080"/>
              <a:ext cx="828720" cy="552960"/>
            </a:xfrm>
            <a:prstGeom prst="leftRightArrow">
              <a:avLst>
                <a:gd name="adj1" fmla="val 50000"/>
                <a:gd name="adj2" fmla="val 29835"/>
              </a:avLst>
            </a:prstGeom>
            <a:solidFill>
              <a:srgbClr val="ff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23" name="" descr=""/>
            <p:cNvPicPr/>
            <p:nvPr/>
          </p:nvPicPr>
          <p:blipFill>
            <a:blip r:embed="rId1"/>
            <a:stretch/>
          </p:blipFill>
          <p:spPr>
            <a:xfrm>
              <a:off x="6854760" y="3292560"/>
              <a:ext cx="1106640" cy="11070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4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robl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Robot qui va chercher un caf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6" name=""/>
          <p:cNvGrpSpPr/>
          <p:nvPr/>
        </p:nvGrpSpPr>
        <p:grpSpPr>
          <a:xfrm>
            <a:off x="2469600" y="4389480"/>
            <a:ext cx="4872600" cy="2393640"/>
            <a:chOff x="2469600" y="4389480"/>
            <a:chExt cx="4872600" cy="2393640"/>
          </a:xfrm>
        </p:grpSpPr>
        <p:sp>
          <p:nvSpPr>
            <p:cNvPr id="4227" name=""/>
            <p:cNvSpPr/>
            <p:nvPr/>
          </p:nvSpPr>
          <p:spPr>
            <a:xfrm>
              <a:off x="2470320" y="4389480"/>
              <a:ext cx="1269000" cy="71640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1 c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4270680" y="4389480"/>
              <a:ext cx="1269000" cy="71640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2 c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6071040" y="4389480"/>
              <a:ext cx="1269000" cy="71640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3 c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30" name=""/>
            <p:cNvCxnSpPr>
              <a:stCxn id="4227" idx="7"/>
              <a:endCxn id="4228" idx="1"/>
            </p:cNvCxnSpPr>
            <p:nvPr/>
          </p:nvCxnSpPr>
          <p:spPr>
            <a:xfrm>
              <a:off x="3555720" y="449316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31" name=""/>
            <p:cNvCxnSpPr>
              <a:stCxn id="4228" idx="7"/>
              <a:endCxn id="4229" idx="1"/>
            </p:cNvCxnSpPr>
            <p:nvPr/>
          </p:nvCxnSpPr>
          <p:spPr>
            <a:xfrm>
              <a:off x="5356440" y="449316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32" name=""/>
            <p:cNvCxnSpPr>
              <a:stCxn id="4228" idx="3"/>
              <a:endCxn id="4227" idx="5"/>
            </p:cNvCxnSpPr>
            <p:nvPr/>
          </p:nvCxnSpPr>
          <p:spPr>
            <a:xfrm flipV="1" rot="10800000">
              <a:off x="3555000" y="5002920"/>
              <a:ext cx="898920" cy="1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33" name=""/>
            <p:cNvCxnSpPr>
              <a:stCxn id="4229" idx="3"/>
              <a:endCxn id="4228" idx="5"/>
            </p:cNvCxnSpPr>
            <p:nvPr/>
          </p:nvCxnSpPr>
          <p:spPr>
            <a:xfrm flipV="1" rot="10800000">
              <a:off x="5355720" y="500292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4234" name=""/>
            <p:cNvSpPr/>
            <p:nvPr/>
          </p:nvSpPr>
          <p:spPr>
            <a:xfrm>
              <a:off x="2470320" y="6066000"/>
              <a:ext cx="1269000" cy="71712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1 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4270680" y="6066000"/>
              <a:ext cx="1269000" cy="71712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2 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6071040" y="6066000"/>
              <a:ext cx="1269000" cy="71712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3 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37" name=""/>
            <p:cNvCxnSpPr>
              <a:stCxn id="4234" idx="7"/>
              <a:endCxn id="4235" idx="1"/>
            </p:cNvCxnSpPr>
            <p:nvPr/>
          </p:nvCxnSpPr>
          <p:spPr>
            <a:xfrm>
              <a:off x="3555720" y="617040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38" name=""/>
            <p:cNvCxnSpPr>
              <a:stCxn id="4235" idx="7"/>
              <a:endCxn id="4236" idx="1"/>
            </p:cNvCxnSpPr>
            <p:nvPr/>
          </p:nvCxnSpPr>
          <p:spPr>
            <a:xfrm>
              <a:off x="5356440" y="617040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39" name=""/>
            <p:cNvCxnSpPr>
              <a:stCxn id="4235" idx="3"/>
              <a:endCxn id="4234" idx="5"/>
            </p:cNvCxnSpPr>
            <p:nvPr/>
          </p:nvCxnSpPr>
          <p:spPr>
            <a:xfrm flipV="1" rot="10800000">
              <a:off x="3555000" y="6678000"/>
              <a:ext cx="898920" cy="1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40" name=""/>
            <p:cNvCxnSpPr>
              <a:stCxn id="4236" idx="3"/>
              <a:endCxn id="4235" idx="5"/>
            </p:cNvCxnSpPr>
            <p:nvPr/>
          </p:nvCxnSpPr>
          <p:spPr>
            <a:xfrm flipV="1" rot="10800000">
              <a:off x="5355720" y="6678000"/>
              <a:ext cx="898920" cy="10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41" name=""/>
            <p:cNvCxnSpPr>
              <a:stCxn id="4229" idx="7"/>
              <a:endCxn id="4229" idx="6"/>
            </p:cNvCxnSpPr>
            <p:nvPr/>
          </p:nvCxnSpPr>
          <p:spPr>
            <a:xfrm>
              <a:off x="7156800" y="4493160"/>
              <a:ext cx="185760" cy="253440"/>
            </a:xfrm>
            <a:prstGeom prst="curvedConnector5">
              <a:avLst>
                <a:gd name="adj1" fmla="val 49902"/>
                <a:gd name="adj2" fmla="val 49928"/>
                <a:gd name="adj3" fmla="val 49902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42" name=""/>
            <p:cNvCxnSpPr>
              <a:stCxn id="4227" idx="3"/>
              <a:endCxn id="4227" idx="2"/>
            </p:cNvCxnSpPr>
            <p:nvPr/>
          </p:nvCxnSpPr>
          <p:spPr>
            <a:xfrm rot="10800000">
              <a:off x="2469600" y="4748400"/>
              <a:ext cx="183960" cy="250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43" name=""/>
            <p:cNvCxnSpPr>
              <a:stCxn id="4234" idx="3"/>
              <a:endCxn id="4234" idx="2"/>
            </p:cNvCxnSpPr>
            <p:nvPr/>
          </p:nvCxnSpPr>
          <p:spPr>
            <a:xfrm rot="10800000">
              <a:off x="2469600" y="6425640"/>
              <a:ext cx="183960" cy="250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44" name=""/>
            <p:cNvCxnSpPr>
              <a:stCxn id="4236" idx="7"/>
              <a:endCxn id="4236" idx="6"/>
            </p:cNvCxnSpPr>
            <p:nvPr/>
          </p:nvCxnSpPr>
          <p:spPr>
            <a:xfrm>
              <a:off x="7156800" y="6170400"/>
              <a:ext cx="185760" cy="253440"/>
            </a:xfrm>
            <a:prstGeom prst="curvedConnector5">
              <a:avLst>
                <a:gd name="adj1" fmla="val 49902"/>
                <a:gd name="adj2" fmla="val 49928"/>
                <a:gd name="adj3" fmla="val 49902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45" name=""/>
            <p:cNvCxnSpPr>
              <a:stCxn id="4234" idx="0"/>
              <a:endCxn id="4227" idx="4"/>
            </p:cNvCxnSpPr>
            <p:nvPr/>
          </p:nvCxnSpPr>
          <p:spPr>
            <a:xfrm flipH="1" flipV="1" rot="5400000">
              <a:off x="2628360" y="5585400"/>
              <a:ext cx="956520" cy="1080"/>
            </a:xfrm>
            <a:prstGeom prst="curvedConnector5">
              <a:avLst>
                <a:gd name="adj1" fmla="val 25000"/>
                <a:gd name="adj2" fmla="val 50000"/>
                <a:gd name="adj3" fmla="val 75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46" name=""/>
            <p:cNvCxnSpPr>
              <a:stCxn id="4229" idx="4"/>
              <a:endCxn id="4236" idx="0"/>
            </p:cNvCxnSpPr>
            <p:nvPr/>
          </p:nvCxnSpPr>
          <p:spPr>
            <a:xfrm flipH="1" rot="16200000">
              <a:off x="6229080" y="5585760"/>
              <a:ext cx="956520" cy="1080"/>
            </a:xfrm>
            <a:prstGeom prst="curvedConnector5">
              <a:avLst>
                <a:gd name="adj1" fmla="val 25000"/>
                <a:gd name="adj2" fmla="val 50000"/>
                <a:gd name="adj3" fmla="val 75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47" name=""/>
            <p:cNvCxnSpPr>
              <a:stCxn id="4235" idx="0"/>
              <a:endCxn id="4228" idx="4"/>
            </p:cNvCxnSpPr>
            <p:nvPr/>
          </p:nvCxnSpPr>
          <p:spPr>
            <a:xfrm flipH="1" flipV="1" rot="5400000">
              <a:off x="4428720" y="5585400"/>
              <a:ext cx="956520" cy="1080"/>
            </a:xfrm>
            <a:prstGeom prst="curvedConnector5">
              <a:avLst>
                <a:gd name="adj1" fmla="val 25000"/>
                <a:gd name="adj2" fmla="val 50000"/>
                <a:gd name="adj3" fmla="val 75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</p:grpSp>
      <p:grpSp>
        <p:nvGrpSpPr>
          <p:cNvPr id="4248" name=""/>
          <p:cNvGrpSpPr/>
          <p:nvPr/>
        </p:nvGrpSpPr>
        <p:grpSpPr>
          <a:xfrm>
            <a:off x="2187720" y="1857240"/>
            <a:ext cx="5675040" cy="1798920"/>
            <a:chOff x="2187720" y="1857240"/>
            <a:chExt cx="5675040" cy="1798920"/>
          </a:xfrm>
        </p:grpSpPr>
        <p:grpSp>
          <p:nvGrpSpPr>
            <p:cNvPr id="4249" name=""/>
            <p:cNvGrpSpPr/>
            <p:nvPr/>
          </p:nvGrpSpPr>
          <p:grpSpPr>
            <a:xfrm>
              <a:off x="2187720" y="2273400"/>
              <a:ext cx="5398560" cy="1382760"/>
              <a:chOff x="2187720" y="2273400"/>
              <a:chExt cx="5398560" cy="1382760"/>
            </a:xfrm>
          </p:grpSpPr>
          <p:sp>
            <p:nvSpPr>
              <p:cNvPr id="4250" name=""/>
              <p:cNvSpPr/>
              <p:nvPr/>
            </p:nvSpPr>
            <p:spPr>
              <a:xfrm>
                <a:off x="2187720" y="2273400"/>
                <a:ext cx="1798920" cy="1382760"/>
              </a:xfrm>
              <a:prstGeom prst="rect">
                <a:avLst/>
              </a:prstGeom>
              <a:solidFill>
                <a:srgbClr val="729fc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3986640" y="2273400"/>
                <a:ext cx="1798920" cy="1382760"/>
              </a:xfrm>
              <a:prstGeom prst="rect">
                <a:avLst/>
              </a:prstGeom>
              <a:solidFill>
                <a:srgbClr val="729fc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5787000" y="2273400"/>
                <a:ext cx="1799280" cy="1382760"/>
              </a:xfrm>
              <a:prstGeom prst="rect">
                <a:avLst/>
              </a:prstGeom>
              <a:solidFill>
                <a:srgbClr val="729fcf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53" name=""/>
            <p:cNvSpPr/>
            <p:nvPr/>
          </p:nvSpPr>
          <p:spPr>
            <a:xfrm>
              <a:off x="2325600" y="2689200"/>
              <a:ext cx="690480" cy="690480"/>
            </a:xfrm>
            <a:prstGeom prst="smileyFace">
              <a:avLst>
                <a:gd name="adj" fmla="val 9282"/>
              </a:avLst>
            </a:prstGeom>
            <a:solidFill>
              <a:srgbClr val="ffcc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3571920" y="2689200"/>
              <a:ext cx="828720" cy="552600"/>
            </a:xfrm>
            <a:prstGeom prst="leftRightArrow">
              <a:avLst>
                <a:gd name="adj1" fmla="val 50000"/>
                <a:gd name="adj2" fmla="val 29854"/>
              </a:avLst>
            </a:prstGeom>
            <a:solidFill>
              <a:srgbClr val="ff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5372280" y="2689200"/>
              <a:ext cx="828360" cy="552600"/>
            </a:xfrm>
            <a:prstGeom prst="leftRightArrow">
              <a:avLst>
                <a:gd name="adj1" fmla="val 50000"/>
                <a:gd name="adj2" fmla="val 29842"/>
              </a:avLst>
            </a:prstGeom>
            <a:solidFill>
              <a:srgbClr val="ff99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56" name="" descr=""/>
            <p:cNvPicPr/>
            <p:nvPr/>
          </p:nvPicPr>
          <p:blipFill>
            <a:blip r:embed="rId1"/>
            <a:stretch/>
          </p:blipFill>
          <p:spPr>
            <a:xfrm>
              <a:off x="6756480" y="1857240"/>
              <a:ext cx="1106280" cy="1106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7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roblè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584280" y="1303200"/>
            <a:ext cx="8686800" cy="588024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76320" bIns="64080" anchor="t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ef actions(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eturn(['gauche','droite','prendre','poser'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ef etats(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eturn([(1,0),(1,1),(2,0),(2,1),(3,0),(3,1)]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def transition(s,a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(pos,cafe)=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a=='gauche'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if (pos&gt;1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s=po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a=='droite'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if (pos&lt;3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pos=pos+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a=='prendre'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if (pos==3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afe=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Courier New"/>
              </a:rPr>
              <a:t>if (a=='poser'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Cafe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urier New"/>
              </a:rPr>
              <a:t>return(pos,ca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9" name=""/>
          <p:cNvGrpSpPr/>
          <p:nvPr/>
        </p:nvGrpSpPr>
        <p:grpSpPr>
          <a:xfrm>
            <a:off x="4114080" y="3273480"/>
            <a:ext cx="4872240" cy="2393280"/>
            <a:chOff x="4114080" y="3273480"/>
            <a:chExt cx="4872240" cy="2393280"/>
          </a:xfrm>
        </p:grpSpPr>
        <p:sp>
          <p:nvSpPr>
            <p:cNvPr id="4260" name=""/>
            <p:cNvSpPr/>
            <p:nvPr/>
          </p:nvSpPr>
          <p:spPr>
            <a:xfrm>
              <a:off x="4114800" y="3273480"/>
              <a:ext cx="1268640" cy="71676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1 c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5915160" y="3273480"/>
              <a:ext cx="1268640" cy="71676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2 c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7715520" y="3273480"/>
              <a:ext cx="1268640" cy="71676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3 c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63" name=""/>
            <p:cNvCxnSpPr>
              <a:stCxn id="4260" idx="7"/>
              <a:endCxn id="4261" idx="1"/>
            </p:cNvCxnSpPr>
            <p:nvPr/>
          </p:nvCxnSpPr>
          <p:spPr>
            <a:xfrm>
              <a:off x="5199840" y="337788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64" name=""/>
            <p:cNvCxnSpPr>
              <a:stCxn id="4261" idx="7"/>
              <a:endCxn id="4262" idx="1"/>
            </p:cNvCxnSpPr>
            <p:nvPr/>
          </p:nvCxnSpPr>
          <p:spPr>
            <a:xfrm>
              <a:off x="7000560" y="337788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65" name=""/>
            <p:cNvCxnSpPr>
              <a:stCxn id="4261" idx="3"/>
              <a:endCxn id="4260" idx="5"/>
            </p:cNvCxnSpPr>
            <p:nvPr/>
          </p:nvCxnSpPr>
          <p:spPr>
            <a:xfrm flipV="1" rot="10800000">
              <a:off x="5199120" y="3887280"/>
              <a:ext cx="899280" cy="10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66" name=""/>
            <p:cNvCxnSpPr>
              <a:stCxn id="4262" idx="3"/>
              <a:endCxn id="4261" idx="5"/>
            </p:cNvCxnSpPr>
            <p:nvPr/>
          </p:nvCxnSpPr>
          <p:spPr>
            <a:xfrm flipV="1" rot="10800000">
              <a:off x="6999840" y="388728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sp>
          <p:nvSpPr>
            <p:cNvPr id="4267" name=""/>
            <p:cNvSpPr/>
            <p:nvPr/>
          </p:nvSpPr>
          <p:spPr>
            <a:xfrm>
              <a:off x="4114800" y="4950000"/>
              <a:ext cx="1268640" cy="71676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1 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915160" y="4950000"/>
              <a:ext cx="1268640" cy="71676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2 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7715520" y="4950000"/>
              <a:ext cx="1268640" cy="716760"/>
            </a:xfrm>
            <a:prstGeom prst="ellipse">
              <a:avLst/>
            </a:prstGeom>
            <a:solidFill>
              <a:srgbClr val="ff99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9080" rIns="109080" tIns="79920" bIns="640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p3 c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70" name=""/>
            <p:cNvCxnSpPr>
              <a:stCxn id="4267" idx="7"/>
              <a:endCxn id="4268" idx="1"/>
            </p:cNvCxnSpPr>
            <p:nvPr/>
          </p:nvCxnSpPr>
          <p:spPr>
            <a:xfrm>
              <a:off x="5199840" y="505476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71" name=""/>
            <p:cNvCxnSpPr>
              <a:stCxn id="4268" idx="7"/>
              <a:endCxn id="4269" idx="1"/>
            </p:cNvCxnSpPr>
            <p:nvPr/>
          </p:nvCxnSpPr>
          <p:spPr>
            <a:xfrm>
              <a:off x="7000560" y="5054760"/>
              <a:ext cx="900720" cy="1080"/>
            </a:xfrm>
            <a:prstGeom prst="curvedConnector5">
              <a:avLst>
                <a:gd name="adj1" fmla="val 49980"/>
                <a:gd name="adj2" fmla="val 50000"/>
                <a:gd name="adj3" fmla="val 4998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72" name=""/>
            <p:cNvCxnSpPr>
              <a:stCxn id="4268" idx="3"/>
              <a:endCxn id="4267" idx="5"/>
            </p:cNvCxnSpPr>
            <p:nvPr/>
          </p:nvCxnSpPr>
          <p:spPr>
            <a:xfrm flipV="1" rot="10800000">
              <a:off x="5199120" y="5562000"/>
              <a:ext cx="899280" cy="10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73" name=""/>
            <p:cNvCxnSpPr>
              <a:stCxn id="4269" idx="3"/>
              <a:endCxn id="4268" idx="5"/>
            </p:cNvCxnSpPr>
            <p:nvPr/>
          </p:nvCxnSpPr>
          <p:spPr>
            <a:xfrm flipV="1" rot="10800000">
              <a:off x="6999840" y="5562000"/>
              <a:ext cx="899280" cy="10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74" name=""/>
            <p:cNvCxnSpPr>
              <a:stCxn id="4262" idx="7"/>
              <a:endCxn id="4262" idx="6"/>
            </p:cNvCxnSpPr>
            <p:nvPr/>
          </p:nvCxnSpPr>
          <p:spPr>
            <a:xfrm>
              <a:off x="8800560" y="3378240"/>
              <a:ext cx="186120" cy="253440"/>
            </a:xfrm>
            <a:prstGeom prst="curvedConnector5">
              <a:avLst>
                <a:gd name="adj1" fmla="val 50000"/>
                <a:gd name="adj2" fmla="val 49928"/>
                <a:gd name="adj3" fmla="val 50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75" name=""/>
            <p:cNvCxnSpPr>
              <a:stCxn id="4260" idx="3"/>
              <a:endCxn id="4260" idx="2"/>
            </p:cNvCxnSpPr>
            <p:nvPr/>
          </p:nvCxnSpPr>
          <p:spPr>
            <a:xfrm rot="10800000">
              <a:off x="4114080" y="3633120"/>
              <a:ext cx="183960" cy="250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76" name=""/>
            <p:cNvCxnSpPr>
              <a:stCxn id="4267" idx="3"/>
              <a:endCxn id="4267" idx="2"/>
            </p:cNvCxnSpPr>
            <p:nvPr/>
          </p:nvCxnSpPr>
          <p:spPr>
            <a:xfrm rot="10800000">
              <a:off x="4114080" y="5309640"/>
              <a:ext cx="183960" cy="250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77" name=""/>
            <p:cNvCxnSpPr>
              <a:stCxn id="4269" idx="7"/>
              <a:endCxn id="4269" idx="6"/>
            </p:cNvCxnSpPr>
            <p:nvPr/>
          </p:nvCxnSpPr>
          <p:spPr>
            <a:xfrm>
              <a:off x="8800560" y="5055120"/>
              <a:ext cx="186120" cy="253440"/>
            </a:xfrm>
            <a:prstGeom prst="curvedConnector5">
              <a:avLst>
                <a:gd name="adj1" fmla="val 50000"/>
                <a:gd name="adj2" fmla="val 49928"/>
                <a:gd name="adj3" fmla="val 5000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78" name=""/>
            <p:cNvCxnSpPr>
              <a:stCxn id="4267" idx="0"/>
              <a:endCxn id="4260" idx="4"/>
            </p:cNvCxnSpPr>
            <p:nvPr/>
          </p:nvCxnSpPr>
          <p:spPr>
            <a:xfrm flipH="1" flipV="1" rot="5400000">
              <a:off x="4272840" y="4469760"/>
              <a:ext cx="956160" cy="1080"/>
            </a:xfrm>
            <a:prstGeom prst="curvedConnector5">
              <a:avLst>
                <a:gd name="adj1" fmla="val 24971"/>
                <a:gd name="adj2" fmla="val 50000"/>
                <a:gd name="adj3" fmla="val 7499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79" name=""/>
            <p:cNvCxnSpPr>
              <a:stCxn id="4262" idx="4"/>
              <a:endCxn id="4269" idx="0"/>
            </p:cNvCxnSpPr>
            <p:nvPr/>
          </p:nvCxnSpPr>
          <p:spPr>
            <a:xfrm flipH="1" rot="16200000">
              <a:off x="7873920" y="4470120"/>
              <a:ext cx="956160" cy="1080"/>
            </a:xfrm>
            <a:prstGeom prst="curvedConnector5">
              <a:avLst>
                <a:gd name="adj1" fmla="val 24971"/>
                <a:gd name="adj2" fmla="val 50000"/>
                <a:gd name="adj3" fmla="val 7499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4280" name=""/>
            <p:cNvCxnSpPr>
              <a:stCxn id="4268" idx="0"/>
              <a:endCxn id="4261" idx="4"/>
            </p:cNvCxnSpPr>
            <p:nvPr/>
          </p:nvCxnSpPr>
          <p:spPr>
            <a:xfrm flipH="1" flipV="1" rot="5400000">
              <a:off x="6073200" y="4469760"/>
              <a:ext cx="956160" cy="1080"/>
            </a:xfrm>
            <a:prstGeom prst="curvedConnector5">
              <a:avLst>
                <a:gd name="adj1" fmla="val 24971"/>
                <a:gd name="adj2" fmla="val 50000"/>
                <a:gd name="adj3" fmla="val 74990"/>
              </a:avLst>
            </a:prstGeom>
            <a:ln w="38160">
              <a:solidFill>
                <a:srgbClr val="000000"/>
              </a:solidFill>
              <a:round/>
              <a:tailEnd len="med" type="triangle" w="med"/>
            </a:ln>
          </p:spPr>
        </p:cxn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1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robleme : Soko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Soko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Caisse et m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mener les cai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A f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Modéliser le probl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Appliquer al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Heuristique si A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3" name="" descr=""/>
          <p:cNvPicPr/>
          <p:nvPr/>
        </p:nvPicPr>
        <p:blipFill>
          <a:blip r:embed="rId1"/>
          <a:stretch/>
        </p:blipFill>
        <p:spPr>
          <a:xfrm>
            <a:off x="6284880" y="1949400"/>
            <a:ext cx="31338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roblèmes : puzzle s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5" name=""/>
          <p:cNvGrpSpPr/>
          <p:nvPr/>
        </p:nvGrpSpPr>
        <p:grpSpPr>
          <a:xfrm>
            <a:off x="539640" y="3780000"/>
            <a:ext cx="2819520" cy="3103560"/>
            <a:chOff x="539640" y="3780000"/>
            <a:chExt cx="2819520" cy="3103560"/>
          </a:xfrm>
        </p:grpSpPr>
        <p:pic>
          <p:nvPicPr>
            <p:cNvPr id="4286" name="" descr=""/>
            <p:cNvPicPr/>
            <p:nvPr/>
          </p:nvPicPr>
          <p:blipFill>
            <a:blip r:embed="rId1"/>
            <a:stretch/>
          </p:blipFill>
          <p:spPr>
            <a:xfrm>
              <a:off x="539640" y="3780000"/>
              <a:ext cx="281952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7" name=""/>
            <p:cNvSpPr/>
            <p:nvPr/>
          </p:nvSpPr>
          <p:spPr>
            <a:xfrm>
              <a:off x="853920" y="6539040"/>
              <a:ext cx="219240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Taqu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8" name=""/>
          <p:cNvGrpSpPr/>
          <p:nvPr/>
        </p:nvGrpSpPr>
        <p:grpSpPr>
          <a:xfrm>
            <a:off x="3714840" y="1619280"/>
            <a:ext cx="2763720" cy="3117600"/>
            <a:chOff x="3714840" y="1619280"/>
            <a:chExt cx="2763720" cy="3117600"/>
          </a:xfrm>
        </p:grpSpPr>
        <p:pic>
          <p:nvPicPr>
            <p:cNvPr id="4289" name="" descr=""/>
            <p:cNvPicPr/>
            <p:nvPr/>
          </p:nvPicPr>
          <p:blipFill>
            <a:blip r:embed="rId2"/>
            <a:stretch/>
          </p:blipFill>
          <p:spPr>
            <a:xfrm>
              <a:off x="3714840" y="1619280"/>
              <a:ext cx="2763720" cy="2762280"/>
            </a:xfrm>
            <a:prstGeom prst="rect">
              <a:avLst/>
            </a:prstGeom>
            <a:ln w="38160">
              <a:solidFill>
                <a:srgbClr val="000000"/>
              </a:solidFill>
              <a:round/>
            </a:ln>
          </p:spPr>
        </p:pic>
        <p:sp>
          <p:nvSpPr>
            <p:cNvPr id="4290" name=""/>
            <p:cNvSpPr/>
            <p:nvPr/>
          </p:nvSpPr>
          <p:spPr>
            <a:xfrm>
              <a:off x="3714840" y="4392720"/>
              <a:ext cx="27637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Rush h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1" name=""/>
            <p:cNvSpPr/>
            <p:nvPr/>
          </p:nvSpPr>
          <p:spPr>
            <a:xfrm>
              <a:off x="3714840" y="4392720"/>
              <a:ext cx="2763720" cy="34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Rush h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2" name=""/>
          <p:cNvGrpSpPr/>
          <p:nvPr/>
        </p:nvGrpSpPr>
        <p:grpSpPr>
          <a:xfrm>
            <a:off x="7020000" y="3959280"/>
            <a:ext cx="2763720" cy="3079800"/>
            <a:chOff x="7020000" y="3959280"/>
            <a:chExt cx="2763720" cy="3079800"/>
          </a:xfrm>
        </p:grpSpPr>
        <p:pic>
          <p:nvPicPr>
            <p:cNvPr id="4293" name="" descr=""/>
            <p:cNvPicPr/>
            <p:nvPr/>
          </p:nvPicPr>
          <p:blipFill>
            <a:blip r:embed="rId3"/>
            <a:stretch/>
          </p:blipFill>
          <p:spPr>
            <a:xfrm>
              <a:off x="7085160" y="3959280"/>
              <a:ext cx="2539800" cy="25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4" name=""/>
            <p:cNvSpPr/>
            <p:nvPr/>
          </p:nvSpPr>
          <p:spPr>
            <a:xfrm>
              <a:off x="7020000" y="6694560"/>
              <a:ext cx="2763720" cy="34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0840" bIns="4500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"/>
                </a:rPr>
                <a:t>Rubick’s cub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Problèmes : puzzle so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6" name="" descr=""/>
          <p:cNvPicPr/>
          <p:nvPr/>
        </p:nvPicPr>
        <p:blipFill>
          <a:blip r:embed="rId1"/>
          <a:stretch/>
        </p:blipFill>
        <p:spPr>
          <a:xfrm>
            <a:off x="1619280" y="1440000"/>
            <a:ext cx="6675480" cy="500508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sp>
        <p:nvSpPr>
          <p:cNvPr id="4297" name=""/>
          <p:cNvSpPr/>
          <p:nvPr/>
        </p:nvSpPr>
        <p:spPr>
          <a:xfrm>
            <a:off x="1619280" y="6480000"/>
            <a:ext cx="66596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r Eureka (blue oran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Et beaucoup d'aut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2"/>
          <p:cNvSpPr>
            <a:spLocks noGrp="1"/>
          </p:cNvSpPr>
          <p:nvPr>
            <p:ph/>
          </p:nvPr>
        </p:nvSpPr>
        <p:spPr>
          <a:xfrm>
            <a:off x="502920" y="147636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Thinkfun  / Smart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0" name="" descr=""/>
          <p:cNvPicPr/>
          <p:nvPr/>
        </p:nvPicPr>
        <p:blipFill>
          <a:blip r:embed="rId1"/>
          <a:stretch/>
        </p:blipFill>
        <p:spPr>
          <a:xfrm>
            <a:off x="720720" y="2697120"/>
            <a:ext cx="4564080" cy="3422520"/>
          </a:xfrm>
          <a:prstGeom prst="rect">
            <a:avLst/>
          </a:prstGeom>
          <a:ln w="38160">
            <a:solidFill>
              <a:srgbClr val="000000"/>
            </a:solidFill>
            <a:round/>
          </a:ln>
        </p:spPr>
      </p:pic>
      <p:pic>
        <p:nvPicPr>
          <p:cNvPr id="4301" name="" descr=""/>
          <p:cNvPicPr/>
          <p:nvPr/>
        </p:nvPicPr>
        <p:blipFill>
          <a:blip r:embed="rId2"/>
          <a:stretch/>
        </p:blipFill>
        <p:spPr>
          <a:xfrm>
            <a:off x="5927760" y="1440000"/>
            <a:ext cx="3251160" cy="5384520"/>
          </a:xfrm>
          <a:prstGeom prst="rect">
            <a:avLst/>
          </a:prstGeom>
          <a:ln w="0">
            <a:noFill/>
          </a:ln>
        </p:spPr>
      </p:pic>
      <p:sp>
        <p:nvSpPr>
          <p:cNvPr id="4302" name=""/>
          <p:cNvSpPr/>
          <p:nvPr/>
        </p:nvSpPr>
        <p:spPr>
          <a:xfrm>
            <a:off x="863640" y="6191280"/>
            <a:ext cx="43196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rns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6119640" y="2560680"/>
            <a:ext cx="3454560" cy="3454200"/>
            <a:chOff x="6119640" y="2560680"/>
            <a:chExt cx="3454560" cy="3454200"/>
          </a:xfrm>
        </p:grpSpPr>
        <p:sp>
          <p:nvSpPr>
            <p:cNvPr id="341" name=""/>
            <p:cNvSpPr/>
            <p:nvPr/>
          </p:nvSpPr>
          <p:spPr>
            <a:xfrm>
              <a:off x="698328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41528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19640" y="256068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5164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71236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4872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280360" y="2560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8328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41528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19640" y="299232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5164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71236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914400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4872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80360" y="2992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8328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1528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19640" y="342432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55164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71236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14400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84872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80360" y="342432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98328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41528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19640" y="385596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55164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71236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14400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84872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80360" y="3855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8328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41528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119640" y="428796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55164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71236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14400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84872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80360" y="428796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98328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41528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19640" y="471960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55164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71236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4400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84872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280360" y="471960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98328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41528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119640" y="515304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164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71236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14400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84872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280360" y="515304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8328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41528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119640" y="5584680"/>
              <a:ext cx="43056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55164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71236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4872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280360" y="5584680"/>
              <a:ext cx="430200" cy="430200"/>
            </a:xfrm>
            <a:prstGeom prst="roundRect">
              <a:avLst>
                <a:gd name="adj" fmla="val 366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02920" y="1476000"/>
            <a:ext cx="9070920" cy="506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Quel est le chemin le plus court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Pourquoi diffici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1. Enumérer che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Explosion combin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3200" spc="-1" strike="noStrike">
                <a:solidFill>
                  <a:srgbClr val="000000"/>
                </a:solidFill>
                <a:latin typeface="Arial"/>
              </a:rPr>
              <a:t>2. Raisonner sur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800" spc="-1" strike="noStrike">
                <a:solidFill>
                  <a:srgbClr val="000000"/>
                </a:solidFill>
                <a:latin typeface="Arial"/>
              </a:rPr>
              <a:t>Quelle info trivia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b8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0" y="252360"/>
            <a:ext cx="10080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4400" spc="-1" strike="noStrike">
                <a:solidFill>
                  <a:srgbClr val="000000"/>
                </a:solidFill>
                <a:latin typeface="Arial"/>
              </a:rPr>
              <a:t>Recherche de chem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2664000" y="1800360"/>
            <a:ext cx="4677840" cy="4678200"/>
            <a:chOff x="2664000" y="1800360"/>
            <a:chExt cx="4677840" cy="4678200"/>
          </a:xfrm>
        </p:grpSpPr>
        <p:sp>
          <p:nvSpPr>
            <p:cNvPr id="408" name=""/>
            <p:cNvSpPr/>
            <p:nvPr/>
          </p:nvSpPr>
          <p:spPr>
            <a:xfrm>
              <a:off x="383328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419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66400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24936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17256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5828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002920" y="180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588640" y="180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3328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3366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63000" bIns="63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Arial"/>
                  <a:ea typeface="Microsoft YaHe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19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6400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4936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7256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75828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02920" y="238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588640" y="238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83328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419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6400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4936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17256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5828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02920" y="297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88640" y="297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3328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19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6400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24936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617256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75828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02920" y="355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88640" y="355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3328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419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66400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24936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17256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5828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002920" y="414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88640" y="414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3328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19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6400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4936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7256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75828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002920" y="472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88640" y="472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3328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9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6400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4936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7256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75828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02920" y="5310360"/>
              <a:ext cx="583920" cy="583920"/>
            </a:xfrm>
            <a:prstGeom prst="roundRect">
              <a:avLst>
                <a:gd name="adj" fmla="val 269"/>
              </a:avLst>
            </a:prstGeom>
            <a:solidFill>
              <a:srgbClr val="99cc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88640" y="5310360"/>
              <a:ext cx="583560" cy="58392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3920"/>
                <a:gd name="textAreaBottom" fmla="*/ 583560 h 58392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ffffff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3328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6400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4936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17256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75828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002920" y="5894280"/>
              <a:ext cx="583920" cy="584280"/>
            </a:xfrm>
            <a:custGeom>
              <a:avLst/>
              <a:gdLst>
                <a:gd name="textAreaLeft" fmla="*/ 360 w 583920"/>
                <a:gd name="textAreaRight" fmla="*/ 583560 w 58392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13">
                  <a:moveTo>
                    <a:pt x="58" y="0"/>
                  </a:moveTo>
                  <a:arcTo wR="58" hR="58" stAng="16200000" swAng="-5400000"/>
                  <a:lnTo>
                    <a:pt x="0" y="21555"/>
                  </a:lnTo>
                  <a:arcTo wR="58" hR="58" stAng="10800000" swAng="-5400000"/>
                  <a:lnTo>
                    <a:pt x="21542" y="21613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88640" y="5894280"/>
              <a:ext cx="583560" cy="584280"/>
            </a:xfrm>
            <a:custGeom>
              <a:avLst/>
              <a:gdLst>
                <a:gd name="textAreaLeft" fmla="*/ 360 w 583560"/>
                <a:gd name="textAreaRight" fmla="*/ 583200 w 583560"/>
                <a:gd name="textAreaTop" fmla="*/ 360 h 584280"/>
                <a:gd name="textAreaBottom" fmla="*/ 583920 h 584280"/>
              </a:gdLst>
              <a:ahLst/>
              <a:rect l="textAreaLeft" t="textAreaTop" r="textAreaRight" b="textAreaBottom"/>
              <a:pathLst>
                <a:path w="21600" h="21627">
                  <a:moveTo>
                    <a:pt x="58" y="0"/>
                  </a:moveTo>
                  <a:arcTo wR="58" hR="58" stAng="16200000" swAng="-5400000"/>
                  <a:lnTo>
                    <a:pt x="0" y="21569"/>
                  </a:lnTo>
                  <a:arcTo wR="58" hR="58" stAng="10800000" swAng="-5400000"/>
                  <a:lnTo>
                    <a:pt x="21542" y="21627"/>
                  </a:lnTo>
                  <a:arcTo wR="58" hR="58" stAng="5400000" swAng="-5400000"/>
                  <a:lnTo>
                    <a:pt x="21600" y="58"/>
                  </a:lnTo>
                  <a:arcTo wR="58" hR="58" stAng="0" swAng="-5400000"/>
                  <a:close/>
                </a:path>
              </a:pathLst>
            </a:custGeom>
            <a:solidFill>
              <a:srgbClr val="000000"/>
            </a:solidFill>
            <a:ln w="360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2116080" y="6480000"/>
            <a:ext cx="562464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2600" spc="-1" strike="noStrike">
                <a:solidFill>
                  <a:srgbClr val="000000"/>
                </a:solidFill>
                <a:latin typeface="Arial"/>
              </a:rPr>
              <a:t>Algorithme de propa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0:32:32Z</dcterms:created>
  <dc:creator/>
  <dc:description/>
  <dc:language>en-US</dc:language>
  <cp:lastModifiedBy/>
  <dcterms:modified xsi:type="dcterms:W3CDTF">2019-03-06T22:08:33Z</dcterms:modified>
  <cp:revision>53</cp:revision>
  <dc:subject/>
  <dc:title/>
</cp:coreProperties>
</file>